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189-72EA-4203-B98A-4594F9C7D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5D5-9146-4E79-826F-9C7FE7DE1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D6A-2773-49EF-924C-5C7A17433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9F5-1E4C-49B8-9465-2A1C02BE3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9662-6ADE-4216-A880-CDDB476C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5A1-8BA6-4449-8D3D-A8EAF6360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53B-2825-413F-958B-4036A101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841-DE73-405D-9059-7D62E76C1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D878-A1A3-4B40-9DCE-CB6138DBC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489-40B5-4BF7-BA4E-C6337DCE8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A16-D388-4AD5-860A-CC1492B8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E21-EF5F-4C15-AFE3-B4D80E165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85A9-3DE6-40CF-910A-354D312A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727-D6D5-4207-820B-9AF6891A5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6AB-CBA2-4E20-BCFF-6FF33AA4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2096-025C-4804-ADE1-D2F86597F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4444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8BD-E0DA-4871-B370-67503247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36432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4444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EF7-E47C-4464-B30C-C6B6BF129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77520" y="4687920"/>
            <a:ext cx="5429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-1332000" y="-957240"/>
            <a:ext cx="9450360" cy="7088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6426-B0A2-4ABB-BAB1-EDF05B911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6A14-4694-4D7E-9307-A70DFF6F6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7554-3F13-4395-A246-EFBD7DB17E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5401-3DC6-4626-8F8D-80079CB62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37AC-073D-4966-885B-526745567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114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A326-0DC1-4786-84D5-79A857A9A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EEA4-FE43-4D8F-94AA-55FE98B68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919B-0686-47BA-9685-1B51A7D9C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090E-77CB-49FE-86B0-1957EB6ED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C462-AEED-4F7D-9FD4-71AB304557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616C-3A3A-4579-8CE0-23AC17802A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261A-AF5B-4ED3-A19B-2AE31040A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114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811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676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727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6034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53036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731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828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6A78-A610-4912-A108-372212A3427F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 COMUNICAZION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CO-PAZIEN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30481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Fabrizio Star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ahoma"/>
              </a:rPr>
              <a:t>DIREZIONE AREA DI COORDINAMENTO SOCIOSANITA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ahoma"/>
              </a:rPr>
              <a:t>ASL CE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UNTI DI FORZA DEL MODELLO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PATIENT CENTRED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ZIONE DEI VANTAGGI DEL MODELLO “DOCTOR CENTRE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PLIAMENTO E SPECIALIZZAZIONE DEGLI OBIETTIVI RELATIVAMENTE ALLA DIMENSIONE PSICOLOGICA DELLA MALATTIA (ILLN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L METODO CLINICO “PATIENT CENTRE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28191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TAGONISTA DEL COLLOQUIO NON È SOLO IL MEDICO CON LE  SUE COMPETENZE MA ANCHE IL PAZIENTE CON LA SUA “ESPERIENZA” DI MALATT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EDIC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VE POSSEDERE, ACCANTO ALLE COMPETENZE TECNICHE E BIOMEDICHE, ANCHE ABILITÀ COMUNICATIVE E DI RELAZIONE CHE PERMETTANO L’ESPLORAZIONE DEI VISSUTI DI MALATTIA DEI PAZIE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00600" y="2285640"/>
            <a:ext cx="3695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ZIENT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NELLA RELAZIONE CON IL MEDICO, È UN SOGGETTO ATTIVO, UNICO ESPERTO IN GRADO DI FORNIRE ELEMENTI SIGNIFICATIVI SULL’INCIDENZA DELLE VARIABILI PSICOLOGICHE E SOCIALI SULLA SUA MALAT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8088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MEDICO E PAZ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NEL METODO PATIENT-CENT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236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’AGENDA DEL PAZIENTE </a:t>
            </a:r>
            <a:br>
              <a:rPr sz="4400"/>
            </a:br>
            <a:br>
              <a:rPr sz="1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L PAZIENTE SI PRESENTA ALLA VISITA CON: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GUARDO LA SUA MALATT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PRETAZIONI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UARDO CIÒ CHE NON 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PETTA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SID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GUARDO CIÒ CHE ANDREBBE FA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MILIARE, SOCIALE E LAVOR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IETTIVI DEL MEDICO “PATIENT CENTRED”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560" y="2170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RE LA PATOLOGIA A CARICO DE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NOSCERE I SENTIMENTI DEL PAZIENTE RISPETTO ALLA SUA MALAT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RE LE IDEE E LE INTERPRETAZIONI ERRATE DEL PAZIENTE SULLA SUA MALAT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RTARSI DELLE ASPETTATIVE E DEI DESIDERI DE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OLTARE LA STORIA DEL PAZIENTE E VERIFICARE L’INFLUENZA DELLA DIAGNOSI E DELLA TERAPIA SUL CONTE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 FUNZIONI DELLA COMUNICAZIONE NEL COLLOQUIO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PATIENT CENTRED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RACCOLTA DELLE INFORMAZIONI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RESTITUZIONE DELLE INFORMAZIONI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COSTRUZIONE E MANTENIMENTO DI UNA RELAZIONE EMPATIC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1760" y="3505320"/>
            <a:ext cx="3848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OLE RIPETUTE O ENFATIZZATE DAL TONO DI VO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GOMENTI INTRODOTTI, APPARENTEMENTE SCONNESSI AI CONTENUTI DELLA CONVERS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75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ACCOLTA DELLE INFORMAZIONI: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DIZI DELL’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24280" y="350532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MI RICORRENTI DURANTE IL CORSO DELLA VIS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ORTAMENTI NON VERBALI CHE SEGNALANO SOFFERENZA O DISAG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133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RANTE IL COLLOQUIO I PAZIENTI LANCIANO INDIZI (CUES) E SUGGERIMENTI (PROMPTS) CHE RIGUARDANO LA LORO “AGENDA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ACCOLTA DELLE INFORMAZIONI: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 TECNICH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CNICHE DI FORMULAZIONE DELLE DOMANDE          (QUESTIONING SKILL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CNICHE DI ASCOLTO           (ACTIVE LISTENING SKILL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ING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4000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CHI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(Hai capogiri al mattino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CHIUSE MULTI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(era mal di testa o senso di vertigin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CHIUSE CONCATE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(ha anche rimesso? C’erano tracce di sangue nel vomito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APERTE DIRET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(come si sente adesso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APERTE INDIRET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(mi dica di più di questo dolore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MANDE STIMO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a dove vogliamo partir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CNICHE DI E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(P: …ero così spaventato… M: spaventato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 LISTENING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CNICA DEL SILENZI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CNICHE DI CONTINUAZIONE          ( Mmmm…, sì, vada avanti...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BIETTIVI DELL’INTERV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ODELLO “DISEASE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TODO CLINICO “DOCTOR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TAGGI E LIMITI DEL MODELLO “DISEASE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ODELLO “PATIENT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TAGGI DEL MODELLO “PATIENT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TODO CLINICO “PATIENT CENTRED”: CARATTERISTICHE E OBIET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TAGGI E LIMITI DEL METODO CLINICO “PATIENT CENTRE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 MIGLIORARE LA RELAZIONE ED AUMENTARE LA MOTIVAZIONE DE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RESTITUZIONE DELLE INFORMAZIONI: LE TECNICH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ECKING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FLECTION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APACITÀ DI ORIENTAMENT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ECKING BACK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ING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ARAFRAS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e ho capito bene, mi ha detto che il dolore al braccio continua a persistere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EVI RICAPITOLAZIO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unque ha detto che il dolore le viene ogni volta che compie sforzi  e poi le manca il respiro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FLECTION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SPRESSIONI EMPATIC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(credo sia stato difficile per lei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RVENTI DI LEGITTIM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ha ragione ad essere spaventato, lo sarebbero tutti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RVENTI DI SUPPOR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(vorrei che lei sappia di poter contare su di 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PACITÀ DI ORIENTA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CU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(mi ascolti bene adesso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ATEGORIZZAZIONI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desso le spiego quali sono le medicine da prendere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TES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biamo detto: due pastiglie a mezzogiorno, una alla sera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ING BACK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EEDBAC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(È tutto chiaro? Mi sono spiegato?              C’è qualcosa che non ha capito?             Vuole ripetermi come dovrà assumere la terapia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. CREAZIONE E MANTENIMENTO DELL’EMPAT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240" y="2666880"/>
            <a:ext cx="8534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 UN COLLOQUIO CLINICO, OLTRE ALLA CORRETTA APPLICAZIONE DELLE TECNICHE DI INTERVISTA E DI ASCOLTO, CIÒ CHE PERMETTE LA COSTRUZIONE E LA DURATA DI UNA RELAZIONE SODDISFACENTE TRA MEDICO E PAZIENTE È L’EMPATIA, FONDATA SULL’INTERESSE E IL RISPETTO PER IL PAZIE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ATTERISTICHE DEL COLLOQUIO CLINICO “PATIENT CENTRED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’INTERAZIONE M-P RISULTA PIÙ “EQUILIBRA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RISPOSTA DEL PAZIENTE RIESCE A MODIFICARE GLI SCHEMI COMUNICATIVI DI RIFERIMENTO DEL ME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CONTENUTO DELLA COMUNICAZIONE E’ RICONDOTTO SIA ALLA DIMENSIONE BIOLOGICA DELLA MALATTIA, SIA ALLA SUA DIMENSIONE PSICOLOGICA E SOCI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ANTAGGI DEL METODO CLINICO “PATIENT CENTRED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48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ELLA QUANTITÀ-QUALITÀ DEI DATI ANAMNESTICI RACCOL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LIORAMENTO DELLA MEMORIZZAZIONE E DELLA COMPRENSIONE DEL TRATT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ELLA COMPLIANCE DEI SOGG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23920" y="18288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ELLA SODDISFAZIONE DEI PAZ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ISIZIONE DI POTERE SOCIALE DEL PAZIENTE NELLA SCELTA DELLA C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INUZIONE DEL FENOMENO DEL DOCTOR-SH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ELLA SODDISFAZIONE DEI MEDICI RISPETTO ALLA PROPRIA PROFES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IMITI DEL METODO CLINICO “PATIENT CENTRED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ICHIESTA SUPPLEMENTARE DI UN INVESTIMENTO FORMATIV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ISCHIO DI APPLICAZIONE MECCANICA E RIPETITIVA DELLE TECNICHE COMUNICATIV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E CARATTERISTICHE DEL MEDICO CHE POSSONO INFLUIR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LLA RELAZIONE MEDICO - PAZIENT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24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caratteristiche sociodemografiche del medi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tile interattivo del me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ensibilità “non verbale” del me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stile linguistico del med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gua/provenienza geogra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us socioecono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129384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8680" y="128736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L MODELLO “DISEASE CENTRE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IL MODELLO SOSTIENE CHE LA MEDICINA SI DEVE OCCUPARE ESCLUSIVAMENTE DELLA MALATTIA INTESA COME ALTERAZIONE DALLA NORMA DI VARIABILI BIOLOGICHE E SOMATICHE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90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LEMENTI DELLO STILE INTERATTIVO DEL MEDICO CHE INFLUISCONO SULLA COLLABORAZIONE DEL PAZIENT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do di fiducia nell’ottenere la collaborazione de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ilità socio-comunic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alità di contatto con i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ibilità/insensibilità verso le caratteristiche situazionali o verso lo stato emotivo del paz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DICATORI NON VERBAL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PRESSION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vimenti delle mani sul corpo, lunghi silenz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NSIONE, IMBARAZZ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umento dei movimenti spontanei, sbattere delle ciglia più frequent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RRITABILIT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lti sorrisi forzati, pochi cenni di assenso con la tes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R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iscorso nervoso o disturbato, ritmo incostante, frequenti interruzioni, evitamento dello sguardo altru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DICATORI NON VERBAL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COERENZA TRA COMUNICAZIONE V. E NON 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 es: la cominicazione v. segnala disponibilit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tre il corpo comunica chiusur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ADO DI COINVOLGIMENTO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uso del “noi”, tempo trascorso guardando l’interlocu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ADO DI PERSUASIVIT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tensità vocale, movimenti diretti verso l’interlocutor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ività facciale o gestual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ni del capo, postura “aperta”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STANZA INTERPERS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0200" y="4060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ELTA DEL REGISTRO LINGUISTICO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 OTTENIMENTO DELLA COLLABORAZIO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divergenza linguistica tra medico e paziente può caus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tivazione a rispond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mento delle risposte socialmente accett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mento di risposte affret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ga dalla rela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E PRINCIPALI MOTIVAZIONI DEI PAZIENTI A COOPER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ddisfazione nella relazione con il me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rensione delle finalità dell’anamn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o di informazioni specific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o di discutere problemi che causano appren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E PRINCIPALI MOTIVAZIONI DEI PAZIENTI A NON COOPER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ca disponibilità di t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barazzo/rifiuto di discut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omprensione delle finalità dell’anamn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idenza/antipatia verso lo specifico me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zione quale meccanismo di dif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91840" y="2785680"/>
            <a:ext cx="7731000" cy="26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RONTEGGIARE LO SHOCK EMO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CONSIDERARE CHE PER ALCUNI SOGGETTI LA NOTIFICA PUO’ COMPORTARE UN SOLLIEVO DALL’ANSIA DELL’INCERTEZ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: il primo incont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91840" y="2214720"/>
            <a:ext cx="7731000" cy="28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REVEDERE UNO STATO DI SHOCK, CON ASSENZA, MUTISMO, TALVOLTA CONFU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NO FREQUENTI LE C.D. “REAZIONI CATASTROFICH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MPLICAZIONI PER L’OPERATORE CHE EFFETTUA LA NOTI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: il primo incont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92200" y="2328480"/>
            <a:ext cx="7866000" cy="30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SUTI COMUNEMENTE SPERIMEN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NSAZIONE DI “INTRAPPOLAMENT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NSAZIONE DI PERDITA DEL CONTROLLO DELLA PROPRIA ESIST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DEE DI COLPA E DI VERGOG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TIGMA E CONDANNA SOCI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: il primo incont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90320" y="2328480"/>
            <a:ext cx="7815240" cy="35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SUTI COMUNEMENTE SPERIMEN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EMERGERE DI CONFLITTI IRRISOLTI CIRCA I PROPRI COMPORTAMENTI A RISCH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GUENZE SUL RAPPORTO COL PART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GUENZE SUI RAPPORTI FAMILI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GUENZE SUL PIANO LAVORATIVO ED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: il primo incont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L METODO CLINICO “DOCTOR CENTRE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AGONISTA DEL COLLOQUIO CLINICO È IL MEDICO CHE DIRIGE LA CONVERSAZIONE NELLA DIREZIONE UTILE A REPER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L PAZIENTE LE INFORMAZIONI NECESSARIE PER LA C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120" y="2286000"/>
            <a:ext cx="786636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AZIONI PSICOLOG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NS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CORSO E PROGNO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TTEGGIAMENTO DEGLI AL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OSSIBILITA’ DI INFETTARE GLI AL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ERDITA DELLE CAPACITA’ FISICHE, PSICHICHE, SOCI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PRESS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CERTEZZA SUL FUTU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SOLAMENTO ED EMARGIN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ERDITA DELLA SALUTE FISICA E PSICH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RIDUZIONE DELLA QUALITA’ DELLA VI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: il primo incont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91840" y="2328840"/>
            <a:ext cx="7731000" cy="303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I  FASE: RIFIUTO/ISOLAME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, IO NO ..., NON PUO’ ESSERE VER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UNZIONE “TAMPONE”: PERMETTE AL SOGGETTO DI FAR FRONTE ALLO STRESS  E DI MOBILIZZARE IN SEGUITO ALTRE DIFESE, MENO RADIC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92200" y="2328480"/>
            <a:ext cx="7934400" cy="326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II  FASE: COLLERA/RABB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ERCHE’ PROPRIO IO ..., PERCHE’ A ME E NON A UN ALTR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COLLERA NON E’ RIVOLTA A QUALCOSA O QUALCUNO IN PARTICOLARE: GLI ALTRI NON C’ENTR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91840" y="2328840"/>
            <a:ext cx="7832520" cy="22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III FASE: DEPRESS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DEE DI COLPA, DI AUTOACC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NSAZIONE CHE “NON VALGA LA PENA ..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1840" y="2328840"/>
            <a:ext cx="783252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IV FASE: PATTEGGIAME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’AFFIDARSI COMPLETAMENTE AI MED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TTEGGIAMENTO REGRESS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91840" y="2328840"/>
            <a:ext cx="7832520" cy="28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V FASE: ACCET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CUPERO DELLA SENSAZIONE DI CONTROLLO SULLA PROPRIA ESIST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DESIONE CONSAPEVOLE AI PROTOCOLLI TERAPEU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asi del cambiam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93760" y="2708280"/>
            <a:ext cx="695952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ECONTEMPL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TEMPL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NTO PER AG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NTEN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ADU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664200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IVELLO INFORMA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BITUDINI A RISCHIO SEDIMEN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CUS OF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CEZIONE DEL RISCH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TENSITA'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SONALITA'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ITUDINE AL RISCH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URA DI UNA "PERDITA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CEZIONE DI UN MIGLIORAMENTO FUTU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UTOSTIMA E CAPACITA' DI AUTODETERMIN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SIA/DEPRESS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FLUENZA DI ALTRE PERSONE SIGNIFICATI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SO DI ALCOOL O DROGHE ECCITAN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UTTI HIV CORRELA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SIDERIO DI PROCRE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attori determinan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642000" cy="419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CEDURE DI AUTOVALUTAZIONE DEI COMPORTAM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CEDURE PER DETERMINARE UN AUMENTO DELLA CONSAPEVOLEZ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DDESTRAMENTO ALL'ACQUISIZIONE DI ATTITUDI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RATEGIE COGN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TERVENTO SUGLI STILI DI V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642360" cy="39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ahoma"/>
              </a:rPr>
              <a:t>PROCEDURE DI AUTOVALUTAZIONE DEI COMPORTAM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SSERVAZIONE DIRET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UTOMONITORAGGIO (DIAR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OLE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MEDICO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È IL DEPOSITARIO DELLA CONOSCENZA ATTRAVERSO LA QUALE INTERPRETA SEGNI E SINTOMI DELLA MALATT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6920" y="1980720"/>
            <a:ext cx="3962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PAZIENTE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È RECETTORE PASSIVO DELLE DECISIONI DEL MEDICO E IL SUO RUOLO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È QUELLO DI FORNIRE ESCLUSIVAMENTE INFORMAZIONI  SULLA SUA MALATT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088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MEDICO E PAZ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NEL METODO DOCTOR-CENT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3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ahoma"/>
              </a:rPr>
              <a:t>PROCEDURE PER DETERMINARE UN AUMENTO DELLA CONSAPEVOLEZ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RIFICA PRECEDENTI ESPERIENZE DI RICADUTA (CARATTERISTICHE, TEMPI, PERCOR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ANTASIE DI RICADUTA (SITUAZIONI AD ALTO RISCHIO, ELEMENTI DI VULNERABILITA', MODALITA' DI GEST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90720" y="2057040"/>
            <a:ext cx="7238880" cy="39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ahoma"/>
              </a:rPr>
              <a:t>ADDESTRAMENTO ALL'ACQUISIZIONE DI ATTITUDI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CNICHE DI RILASSAMENTO (PER SOGGETTI CON MODALITA' INADEGUATE DI RISPOSTA AD EVENTI STRESSANT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TTEGGIAMENTO ASSERTIVO (IN CONTRAPPOSIZIONE A PASSIVO O AGGRESSIV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SPOSIZIONE CONTROLLATA AGLI STIMOLI ASSOCIATI AI COMPORTAMENTI DA MODIFIC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2392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ahoma"/>
              </a:rPr>
              <a:t>STRATEGIE COGN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TRUTTURAZIONE COGN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VITARE LE DISTORSIONI COGNITIVE  (TUTTO-O-NULLA, PERSONALIZZARE, ETICHETTARE, ENFATIZZARE-MINIMIZZARE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DELL'EFFETTO DELLA VIOLAZIONE DELLE NOR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ARADOSSO DEL BEVITORE DI BIRRA DI WATZLAVI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DELLE DECISIONI APPARENTEMENTE IRRILEVA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IMO ANELLO DI UNA CATENA DI COMPORTAMENTI PREVEDIB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66420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ahoma"/>
              </a:rPr>
              <a:t>INTERVENTO SUGLI STILI DI V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EMPIRE I VUOTI CON ATTIVITA' GRATIFICA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ENDENZA POS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TTIVITA' NON COMPETITIVA, SEMPLICE, CHE NON DIPENDE DA ALTRI, CHE HA UN VALORE PER IL S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CNICHE DI CONTROLLO DEGLI STIMO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unicazione Medico-Pazient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’esperienza in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IN SINTESI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Quantità e qualità dello scambio informativo nel colloquio dipendono dalle competenze comunicative in ca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attori sociodemografici, stili interattivi, attenzione alla componente non verbale della comunicazione, stile linguistico adottato incidono sulla qualità dell’inter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È  compito del medico assicurarsi la collaborazione del paziente, evitando la collusione con i meccanismi di negazione e sviluppando la motiv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Fondamentale la consapevolezza delle motivazioni che spingono i pazienti a collaborare/non collabor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a capacità di gestire dubbi/diffidenze iniziali dei pazienti e i loro atteggiamenti durante l’intervista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uò aumentare la qualità e la quantità delle informazioni raccol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SINTESI</a:t>
            </a: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Individuazione e gestione degli aspetti psicologici e psichiatrici dell’infezione da H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NEUROPSICHIATRICI ASSOCIATI ALL’INFEZIONE DA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NDROMI E DISTURBI PSICHICI CHE AUMENTANO IL RISCHIO DI CONTRARRE O TRASMETTERE L’INFEZIONE DA H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 SOGGETTI HIV-SIERONEG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ELLE PERSONE CHE ASSISTONO SOGGETTI HIV-SIEROPOSI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 SOGGETTI HIV-SIEROPOSI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3399"/>
                </a:solidFill>
                <a:latin typeface="Tahoma"/>
              </a:rPr>
              <a:t>DISTURBI  PSICHIATRICI E COMPORTAMENTI A RISCHIO PER HIV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BUSO DI SOSTA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BUSO DI ALC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DISTURBI DI PERSONALITA’ (ASOCIALE, BORDERL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PSICHICI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NEGLI OPERATORI D’ASSISTENZ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REAZIONE ACUTA DA ST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BURN-OUT SYNDROM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SINDROME DA DISADAT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RATTERISTICHE DEL COLLOQUIO CLINICO “DOCTOR CENTRED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O CONTROLLO DEGLI SCAMBI COMUNICATIVI DA PARTE DEL MED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RISPOSTA DEL PAZIENTE RARAMENTE RIESCE A MODIFICARE GLI SCHEMI COMUNICATIVI DI RIFERIMENTO DEL ME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CONTENUTO DELLA COMUNICAZIONE E’ ESCLUSIVAMENTE RICONDOTTO ALLA DIMENSIONE BIOLOGICA DELLA MALATT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6080" y="624996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NEUROPSICHIATRICI IN SOGGETTI HIV-SIEROPOSITI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DISTURBI MENTALI ORGAN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DISTURBI NEUROLOGICI CON POSSIBILE SINTOMATOLOGIA PSICHIAT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DISTURBI PSICHIATR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COMORBIDITA’ PSICHIATRICA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E INFEZIONE DA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IPOTESI EZIOLOGI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10960" y="4805280"/>
            <a:ext cx="2981520" cy="8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TROPISMO DEL 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PER IL S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42040" y="4881600"/>
            <a:ext cx="3184560" cy="8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EFFETTI COLLATE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DEI FARMA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4800" y="6024600"/>
            <a:ext cx="3184560" cy="52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IMPATTO PSICO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6200000">
            <a:off x="2823840" y="3817800"/>
            <a:ext cx="2962440" cy="822240"/>
          </a:xfrm>
          <a:prstGeom prst="rightArrow">
            <a:avLst>
              <a:gd name="adj1" fmla="val 50000"/>
              <a:gd name="adj2" fmla="val 18016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rot="16200000">
            <a:off x="651240" y="3170160"/>
            <a:ext cx="1590840" cy="746280"/>
          </a:xfrm>
          <a:prstGeom prst="rightArrow">
            <a:avLst>
              <a:gd name="adj1" fmla="val 50000"/>
              <a:gd name="adj2" fmla="val 10659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rot="16200000">
            <a:off x="6366240" y="3170160"/>
            <a:ext cx="1590840" cy="746280"/>
          </a:xfrm>
          <a:prstGeom prst="rightArrow">
            <a:avLst>
              <a:gd name="adj1" fmla="val 50000"/>
              <a:gd name="adj2" fmla="val 10659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COMORBIDITA’ PSICHIATRICA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E INFEZIONE DA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FATTORI DI VULNERABILIT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ATTORI PSICOGENI E PSICOSOC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ERSONALITA’ PREMORBO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TILI COMPORTAMENT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TTEGGIAMENTI COGNI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ISPONIBILITA’ DI SUPPOR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ATTORI ORGANI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ULNERABILITA’ GENE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ANIFESTAZIONI DELL’IMMUNODEFICI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EFFETTO IATROGENO DELLE TERAP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1833480"/>
          <a:ext cx="9083520" cy="53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3480"/>
                    <a:ext cx="9083520" cy="53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62120" y="457200"/>
            <a:ext cx="76197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SINTOMI PSICHIATR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INDOTTI DA FARMACI A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MENTALI ORGANICI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DELIRIU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DISTURBO COGNITIVO-MOTORIO LIE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DEMENZA ASSOCIATA ALL’INFEZIONE DA HIV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DISTURBI MENTALI ORGANICI E PSICOGENI:</a:t>
            </a: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ELEMENTI PER LA DIAGNOSI DIFFERENZIAL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AMNESI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NEUROPSICHIA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ESAME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PSICOPATOLO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NTIMENTI DI INCAPACITA’, ROVINA, COLPA, AUTOSVALUTAZIONE, DISPERAZIONE, INUTILITA’, IDEE E COMPORTAMENTI SUICID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PERFORMANCE AI TESTS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NEUROPSICOLOG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POSTE “NON S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ALSI ERR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ILITA’ DELLE PRESTAZIONI IN PROVE DELLA MEDESIMA DIFFICOLT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NEUROLOGICI CON POSSIBILE SINTOMATOLOGIA PSICHIATR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MENINGITE ASET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MENINGITE DA CRIPTOCOC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TOXOPLASMOSI CEREB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TBC DEL S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INFEZIONI OPPORTUNISTICHE DEL S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ENCEFALITE DA CM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ENCEFALITE DA H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LINFOMA PRIMARIO DEL S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COMORBIDITA’ PSICHIATRICA E INFEZIONE DA H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Tahoma"/>
              </a:rPr>
              <a:t>REAZIONE ACUTA DA ST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Tahoma"/>
              </a:rPr>
              <a:t>SINDROME DA DISADATTA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Tahoma"/>
              </a:rPr>
              <a:t>EPISODIO DEPRESS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Tahoma"/>
              </a:rPr>
              <a:t>SINDROME ANSIOSA GENERALIZZ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Comic Sans MS"/>
              </a:rPr>
              <a:t>MENO FREQUENTEMEN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SINDROME PSICOTICA ACU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SINDROME DA ATTACCHI DI PA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DISTURBO POST-TRAUMATICO DA ST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DISTURBO OSSESSIVO-COMPUL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ahoma"/>
              </a:rPr>
              <a:t>DISTURBI DEL SON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PSICHIATRICI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REAZIONE ACUTA DA STRESS ASSOCIATA ALL’INFEZIONE DA HIV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ESPOSIZIONE AD UN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FATTORE STRESSANT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SSOCIATO ALL’INFEZIONE DA H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ESORDIO IMMEDIATO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DEI SINTO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LIE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ALPITAZIONI, SUDORAZIONE, TREMORI, BOCCA SECCA, DOLORE ALL’EPIGASTRIO, DIFFICOLTA’ DI RESPIRAZIONE, SENSAZIONE DI VERTIGINE, DI VENIR MENO, DI STARE IMPAZZENDO, TENSIONE MUSCOLARE, IRREQUIETEZ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MODERATI / GRA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ITIRO SOCIALE, RESTRINGIMENTO DELL’ATTENZIONE, DISORIENTAMENTO APPARENTE, RABBIA, SCONFORTO, IPERATTIVITA’ INAPPROPRIATA, ANGOSCIA INCONTROLLAB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 SINTOMI INIZIANO A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REGREDIRE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OPO 48 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PSICHIATRICI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INDROME DA DISADATTAMENTO ASSOCIATA ALL’INFEZIONE DA HIV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FATTORE STRESSANTE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ASSOCIATO ALL’INFEZIONE DA HIV NEL MESE PRECEDENTE L’ESORDIO DEI SINTO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REAZIONE DISADATTIVA ALLO ST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MPROMISSIONE DELLE PERFORMANCES E DELLE RELAZIONI SOCIAL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DURATA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NON SUPERIORE AI SEI MES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FORME PIU’ FREQUENT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N PREVALENTE DEPRESSIO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N PREVALENTE ANS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N S. OSSESSIVO-COMPULSI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AGIONI DEL SUCCESSO DEL MODELLO TRADIZION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SEMPLICITÀ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250000"/>
              </a:lnSpc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PREDITTIVITÀ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ts val="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200000"/>
              </a:lnSpc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CHIAREZZA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32004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VERIFICABILITÀ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300000"/>
              </a:lnSpc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INSEGNABILITÀ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PSICHIATRICI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INDROME ANSIOSA GENERALIZZATA ASSOCIATA ALL’INFEZIONE DA HIV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OTEVOLE TENSIONE, PREOCCUPAZIONE ED APPRENSIONE PRESENTI PER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ALMENO SEI 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VEGETA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ALPITAZIONI, SUDORAZIONE, TREMORE, BOCCA SEC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TORACICI E ADDOMI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SPIRO DIFFICILE, SOFFOCAMENTO, DOLORE TORACICO, NAUS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PSICH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NSAZIONE DI VERTIGINI, DI PERDERE IL CONTROLLO, PAURA DI MORTE, DEREALIZZAZIONE, DEPERSONAL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GENER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AMPATE DI CALORE, INTORPIDI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DI TENS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OLORI MUSCOLARI, IRREQUIETEZZA, NODO ALLA GO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DISTURBI PSICHIATRICI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EPISODIO DEPRESSIVO ASSOCIATO ALL’INFEZIONE DA HIV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REVALENZA: 4 - 21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UMORE DEPRESSO (PER 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ALMENO DUE SETTIMANE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ERDITA DI INTERESSE O DI PIAC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IDUZIONE DELLE ENERGIE, AFFATICABILITA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NTOMI AGGIUN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DITA DELL’AUTOSTI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NTIMENTI DI AUTOACC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DEE E COMPORTAMENTI SUICIDA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FFICOLTA’ DI CONCENT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LTERATE ATTIVITA’ PSICOMOTO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STURBI DEL SON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ARIAZIONI DELL’APPETI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OSSONO ESSERE PRESENTI SINTOMI PSICOT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TERAPIA FARMACOLOGICA:</a:t>
            </a:r>
            <a:br>
              <a:rPr sz="4000"/>
            </a:br>
            <a:r>
              <a:rPr b="1" lang="it-IT" sz="4000" spc="-1" strike="noStrike" u="sng">
                <a:solidFill>
                  <a:srgbClr val="333399"/>
                </a:solidFill>
                <a:uFillTx/>
                <a:latin typeface="Tahoma"/>
              </a:rPr>
              <a:t>ANS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BENZODIAZEP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EGLIERE BDZ POCO LIPOFILE, AD EMIVITA BREVE, PRIVE DI METABOLITI ATTIV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IDERARE LA POSSIBILITA’ DI DEPRESSIONE RESPIRA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ONSIGLIATE NEI PAZIENTI CON DISTURBI COGNI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TERAPIA FARMACOLOGICA:</a:t>
            </a:r>
            <a:br>
              <a:rPr sz="4000"/>
            </a:br>
            <a:r>
              <a:rPr b="1" lang="it-IT" sz="4000" spc="-1" strike="noStrike" u="sng">
                <a:solidFill>
                  <a:srgbClr val="333399"/>
                </a:solidFill>
                <a:uFillTx/>
                <a:latin typeface="Tahoma"/>
              </a:rPr>
              <a:t>DEPRESSIO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SCEGLIERE FARMACI CON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SCARSO POTENZIALE ANTICOLINERGICO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(XEROSI DELLE MUCOSE, PSICOSI ANTICOLINERGICA, DEFICIT DELLA MEMORIA) ED ANTIISTAMINICO (SEDAZIO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 TRICICLICI POSSONO SCATENARE O AGGRAVARE CONDIZIONI DI CONFUSIONE E DI DELIRI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GLI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SSRI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HANNO DIMOSTRATO BUONA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EFFICACIA E TOLLERABILITA’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 DOSAGGI EFFICACI INIZIALI CORRISPONDONO A CIRCA 1/2 DI QUELLI ORDINAR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Tahoma"/>
              </a:rPr>
              <a:t>TERAPIA FARMACOLOGICA:</a:t>
            </a:r>
            <a:br>
              <a:rPr sz="4000"/>
            </a:br>
            <a:r>
              <a:rPr b="1" lang="it-IT" sz="4000" spc="-1" strike="noStrike" u="sng">
                <a:solidFill>
                  <a:srgbClr val="333399"/>
                </a:solidFill>
                <a:uFillTx/>
                <a:latin typeface="Tahoma"/>
              </a:rPr>
              <a:t>PSICOSI FUNZIONAL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DOSAGGI CONTENUTI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DURATA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DEL TRATTAMENTO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RIDOTTA AL MINIM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NSIDERARE GLI EFFETTI COLLATERALI DEI NL CONVENZIONAL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POTENSIONE, S. EXTRAPIRAMIDALI, S. MALIGNA DA NEUROLETTICI, ABBASSAMENTO DELLA SOGLIA CONVULS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 NUOVI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NL ATIPICI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 GARANTISCONO </a:t>
            </a:r>
            <a:r>
              <a:rPr b="1" lang="it-IT" sz="2200" spc="-1" strike="noStrike">
                <a:solidFill>
                  <a:srgbClr val="ff0000"/>
                </a:solidFill>
                <a:latin typeface="Tahoma"/>
              </a:rPr>
              <a:t>MAGGIORE MANEGGEVOLEZZA E MINORI EFFETTI COLLATERAL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CONSIDERARE LA DIMINUZIONE DEL PESO CORPOREO E DEL CONTENUTO SERICO DI PROTE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747800"/>
          <a:ext cx="9144000" cy="51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780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480" y="380880"/>
            <a:ext cx="76964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Arial"/>
              </a:rPr>
              <a:t>INTERAZIONI TRA FARMACI A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Arial"/>
              </a:rPr>
              <a:t>PSICOFARMACI E ALCOOL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380880"/>
            <a:ext cx="76964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Arial"/>
              </a:rPr>
              <a:t>INTERAZIONI TRA FARMACI A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Arial"/>
              </a:rPr>
              <a:t>E SOSTANZE RICRE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00008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Sostanza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Interazione possibil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stas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ritonavir (fatale), PIs, efavire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pe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PI -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roina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uò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Ketamina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itonavir, nelfinavir, efavirenz,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tri A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caina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conosci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HB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V – specialmente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S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CP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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1805040"/>
          <a:ext cx="9140760" cy="50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5040"/>
                    <a:ext cx="91407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57200" y="3049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EFFETTI COLLATERALI DEGLI PSICOFARMACI DA CONSIDERARE NELLE TERAPIE ASSOC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333399"/>
                </a:solidFill>
                <a:latin typeface="Comic Sans MS"/>
              </a:rPr>
              <a:t>Conclusioni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..Il problema del comunicare con altrui, del parlare ad altrui, è… di operare su altrui perché operi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Tra le esigenze di queste operazioni… sempre e anzitutto c’è quella, che la vita altrui sia promossa, cangiata o elevata.”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it-IT" sz="3400" spc="-1" strike="noStrike">
                <a:solidFill>
                  <a:srgbClr val="333399"/>
                </a:solidFill>
                <a:latin typeface="Comic Sans MS"/>
              </a:rPr>
              <a:t>B. Cro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I DEL MODELLO TRADIZ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UMANIZZAZION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IDUZIONISM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PERMEDICALIZZAZION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L MODELLO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PATIENT CENTRE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4920" y="25909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Arial"/>
              </a:rPr>
              <a:t>IL MODELLO SOSTIENE CHE LA PATOLOGIA IN SENSO BIOLOGICO E IL VISSUTO DI MALATTIA DEL MALATO MERITANO LA STESSA ATTENZION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7:45:00Z</dcterms:created>
  <dc:creator>*</dc:creator>
  <dc:description/>
  <dc:language>en-US</dc:language>
  <cp:lastModifiedBy>icog04</cp:lastModifiedBy>
  <dcterms:modified xsi:type="dcterms:W3CDTF">2005-09-04T09:12:34Z</dcterms:modified>
  <cp:revision>70</cp:revision>
  <dc:subject/>
  <dc:title>LA COMUNICAZIONE VERBALE E NON VERBALE NELL’INTERVISTA</dc:title>
</cp:coreProperties>
</file>