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7A65-A3B7-4063-9277-76D0297E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0CDF-6047-4458-9AB7-716324F2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36C1-57DA-453D-8BAC-003AABEA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DD40-D3F6-4E99-A613-FEDAB88F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CA7E-7D9F-414E-B610-F1AA1AED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39EB-1411-46E3-ADD1-B310C1A2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8FC6-D047-4660-81E5-3A845F62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3682-FE9E-432D-BE3F-9C1FDC4B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F58B-8EE4-4800-87F9-97D1957C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1C2D-ADF6-44C4-B076-19A7A7AB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656E-1715-4FA7-A6D6-2AED4F76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C910-79EB-4E8A-A6D8-BC51294E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A15C-E487-48BF-B929-C65F9558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A7C7-9BA5-47C1-B4A0-09805E28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8CCD-B8A0-4FE4-9A2C-FD5ED470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9E2C-965F-41B5-AC8D-58941332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C4DD-005A-4141-BFB9-07616EEB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111C-0E56-47E7-ACBC-0D9FAFD0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9B40-E4F9-4568-8B1F-720D23DD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B368-440E-4EA8-8C91-FBF04AE8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2ADA-2CAD-4134-9BAF-8B0CDE82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833C-BA04-432B-B908-EF3FD97D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CF8D-B6F3-468B-AF5B-716A8FEE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A422-D9B6-43F0-A461-D4CDB692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076E-EC9A-4020-8790-8E00DCA6706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CD5D-B6DE-472E-8B23-8D83FED9088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Nadir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ilippo von Schloesse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resident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Fondazione Nadir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10920" y="2205000"/>
            <a:ext cx="7848360" cy="34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ONLU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Verdana"/>
              </a:rPr>
              <a:t>17 Gennaio 2005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012000" y="5919840"/>
            <a:ext cx="313200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CRETO 17 dicembre 2004  - sperimentazioni  cliniche  dei medicinali, con particolare  riferimento  a  quelle  ai  fini del miglioramento della pratica clinica, quale parte integrante dell'assistenza sanitaria. (G.U. del 22/2/2005)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in vigore dal 22/5/2005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egno nello sviluppo di un ruolo attivo delle persone con patologie croniche, sia nelle scelte che concernono la propria salute, sia nelle scelte orientate all’ottimizzazione della qualità della vita.</a:t>
            </a:r>
            <a:br>
              <a:rPr sz="24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012000" y="5919840"/>
            <a:ext cx="313200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mozione e sviluppo della ricerca medica nel campo dell’HIV/AIDS, delle malattie infettive e delle specialità correlabili per studi scientifici (epatiti, coinfezioni), attivandosi nella ricerca scientifica, nella informazione e nella formazion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012000" y="5919840"/>
            <a:ext cx="313200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l progetto raggiungerà i suoi obiettiv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 tutti gli attori dello scenari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ribuiranno, a seconda delle propr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pacità e competenze, allo svilupp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ll’organizzazi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012000" y="5919840"/>
            <a:ext cx="313200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adir e Fondazione Nadi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Nadir Onlus – HIV treatment Group – </a:t>
            </a:r>
            <a:r>
              <a:rPr b="1" lang="it-IT" sz="3200" spc="-1" strike="noStrike" u="sng">
                <a:solidFill>
                  <a:srgbClr val="ffffff"/>
                </a:solidFill>
                <a:uFillTx/>
                <a:latin typeface="Verdana"/>
              </a:rPr>
              <a:t>associazione:</a:t>
            </a:r>
            <a:r>
              <a:rPr b="1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ffffff"/>
                </a:solidFill>
                <a:uFillTx/>
                <a:latin typeface="Verdana"/>
              </a:rPr>
              <a:t>Fondazion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Nadir Onlus : 200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3143520" cy="847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900000" y="5229360"/>
            <a:ext cx="31323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Associazione Nadir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10920" y="2205000"/>
            <a:ext cx="7848360" cy="34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IV Treatment Group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ONLU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00840" y="6010200"/>
            <a:ext cx="314316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adir ONLUS, fondata nel 1998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Associazione Patient Bas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Finalità: informazione/formazione/advocacy sui trattamenti HIV e patologie correlat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Riduzione di ogni tipo di discriminazion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accesso alla terapi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standard di cur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000840" y="6010200"/>
            <a:ext cx="3143160" cy="8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cop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Verdana"/>
              </a:rPr>
              <a:t>Perchè Nadir 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Nel ’98 ritenevamo utile e necessaria:</a:t>
            </a: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209680" indent="-380880"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Informazione per tutti dal PDV del paziente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209680" indent="-380880"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Training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209680" indent="-380880"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Advocac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Una persona/paziente informata(o) è utile a lei(lui) stessa(o), al suo medico, alla società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Il paziente interagisce realmente con il medico e la società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Paziente: </a:t>
            </a:r>
            <a:r>
              <a:rPr b="1" lang="it-IT" sz="2400" spc="-1" strike="noStrike" u="sng">
                <a:solidFill>
                  <a:srgbClr val="ffffff"/>
                </a:solidFill>
                <a:uFillTx/>
                <a:latin typeface="Verdana"/>
              </a:rPr>
              <a:t>da spettatore ad attore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00840" y="6010200"/>
            <a:ext cx="314316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89308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ecff"/>
                </a:solidFill>
                <a:latin typeface="Verdana"/>
              </a:rPr>
              <a:t>Attivit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Progetti costanti e consolidati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Delta [stampa - bimestrale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Sito web e Nadirnotizie [</a:t>
            </a:r>
            <a:r>
              <a:rPr b="0" lang="it-IT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tempestività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Seminari: “undetectables”</a:t>
            </a:r>
            <a:r>
              <a:rPr b="0" lang="it-IT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trasversal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000840" y="6010200"/>
            <a:ext cx="314316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893080" cy="55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ecff"/>
                </a:solidFill>
                <a:latin typeface="Verdana"/>
              </a:rPr>
              <a:t>Altre attivit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Progetti ad hoc, secondo ns.“termometri”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adirPoint: monografie formato PDF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Editoria specifica: effetti collaterali, dieta, poster sulle terapie, ecc…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ecff"/>
                </a:solidFill>
                <a:latin typeface="Verdana"/>
              </a:rPr>
              <a:t>Come 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Liberalità e contributi ad hoc dal settore Privato e pubblico </a:t>
            </a:r>
            <a:r>
              <a:rPr b="0" lang="it-IT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3000" spc="-1" strike="noStrike" u="sng">
                <a:solidFill>
                  <a:srgbClr val="ffffff"/>
                </a:solidFill>
                <a:uFillTx/>
                <a:latin typeface="Verdana"/>
              </a:rPr>
              <a:t>indipendenza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000840" y="6010200"/>
            <a:ext cx="314316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8291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vello Europeo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vello naziona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TG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dir (Italia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CAB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-CAB (Italia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000840" y="6010200"/>
            <a:ext cx="3143160" cy="847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95280" y="3284640"/>
            <a:ext cx="504720" cy="720720"/>
          </a:xfrm>
          <a:prstGeom prst="downArrow">
            <a:avLst>
              <a:gd name="adj1" fmla="val 50000"/>
              <a:gd name="adj2" fmla="val 3569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3357720"/>
            <a:ext cx="504720" cy="720720"/>
          </a:xfrm>
          <a:prstGeom prst="downArrow">
            <a:avLst>
              <a:gd name="adj1" fmla="val 50000"/>
              <a:gd name="adj2" fmla="val 3569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24000" y="4221000"/>
            <a:ext cx="1214640" cy="486000"/>
          </a:xfrm>
          <a:prstGeom prst="leftRightArrow">
            <a:avLst>
              <a:gd name="adj1" fmla="val 50000"/>
              <a:gd name="adj2" fmla="val 4975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16000" y="198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03640" y="1844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10080" y="0"/>
            <a:ext cx="26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Nadi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5516640"/>
            <a:ext cx="48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000840" y="6010200"/>
            <a:ext cx="3143160" cy="847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116000" y="981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333360"/>
            <a:ext cx="799308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Nadir nel 2005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Del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adir-notiz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Sito web: </a:t>
            </a:r>
            <a:r>
              <a:rPr b="0" lang="it-IT" sz="2800" spc="-1" strike="noStrike">
                <a:solidFill>
                  <a:srgbClr val="ffff00"/>
                </a:solidFill>
                <a:latin typeface="Verdana"/>
              </a:rPr>
              <a:t>www.nadironlus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adir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Editoria specifica su vari te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Semina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Target: pazienti/medici/operat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4:32:51Z</dcterms:created>
  <dc:creator>**</dc:creator>
  <dc:description/>
  <dc:language>en-US</dc:language>
  <cp:lastModifiedBy>--</cp:lastModifiedBy>
  <dcterms:modified xsi:type="dcterms:W3CDTF">2005-09-08T14:31:04Z</dcterms:modified>
  <cp:revision>40</cp:revision>
  <dc:subject/>
  <dc:title>Nadir</dc:title>
</cp:coreProperties>
</file>