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15F8-432A-493D-ADF3-E363C152FE87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logous fat transplant (AFT) is effective and durable over time for correction of lipoatrophy in HIV-infected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87 summarize our centre experience with more than 100 people been 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personally believe that this is the  more phisiological technique to treat facial lipoatr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alylactic acyd and Polacrylamide are filler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ylactic acid  is injected in the dermis and allows neo collagenogenesis due to an inflammation reaction. After a couple of weeks the material is metabolized and no long time toxicities may come out. A long follow up experience presented at the CROI this year suggest that in order to mantain a sufficient dermal thokness some PLA injections are needed from time to time. This is the only filler material approuved fron FDA for the tratment of HV realated facial ar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lacrylamide gel is a biocompatible non reabsobable material consisting of 2.5% cross-linked polacrylamide and 97.5% water acting by adding volume to the subcutaneous tissue. Local anestesia is not needed as a 27G needle is used for injection.. No cases of fibrosis or granuloma have ever been documented in 3 yrs follow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 seems to be the only effective available treatment for HIV-related facial lipoatroph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tologous fat transfer (AFT) surgery and injection of reabsorbable or non-reabsorbable material into the lipoatrophic areas of the face have been used for treatment of HIV-related facial lipoatr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arisons between treatment approaches have never been done so f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entry criteria of our study were very si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 excluded people with CD4&lt;100. I’m not sure this w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latlet count or coagulation problem, frequent in people with liver cirrosis, must be kept in consideration due to the risk of hemat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is is ou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l the people with a residual subcutaneous fat that could be used as graft were offered to recheive autologous fat transfer and were not randomized.They were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ople with generalized lipoatrofy were sequentially assigned to  2 different surgical team injecting either PLA or AQ and were so randomized to recheive filler impl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0 had polilactic acyd and 15 polacrylamide 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oth objective and subjective outcome variable were cho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You may be familiar with ACTG,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Assessment of body Change and Distress (ABCD). Previous this study we ha the possibility to validate an italian version of this questionnaire. A strong limitation of this tool is that it does not contain any items refering to face appearance. We then decided to add a Visual Analogue Scale to measure face aestetic satisf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d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se are demografic variable at the base line. Patients caracteristics were very well balanced in the thre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You may notice that most of the patients had a low nadir CD4 and they experienced a relevant improuvment of immune function. People were extensivelly treated with all the classes of antiretrovi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OVA test tells us that baseline ultrasound characteristics of people offered lipofilling had a higher mean thchness of dermal plus subcute. You may remember that this arm was not randmized and we may argue that this population had a less severe lipoatr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teresting the change of dermal+subcute thikness that is the the primary outcome of the study was not different in the three arms. This mean that cheek volume increase, was similar in the thre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t us go through the subjective variab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l the people were extremply satisfied of aestetic outcome of the surgical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nce again W24 outcome was statistical lower in the lipofillig group, but dalta variable demonstrated no difference in the three study 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ith regard of ABCD questionnaire lipofillig group was less satisfied of body appearance at the end of treatment and experience a higher impact of lipodistrofhy in everyday life 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 serious adverse events were rep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nor side effects as oedema or mild pain were common but not relev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nor subcute bleading that was very r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ith regard of lipofi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conclusi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ll three interventional techniques were highly effective in  improving the  aesthetic satisfaction of the pat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re were no significant differences in objective and in aestetic variables among three study a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ody image outcome (ABCT) was poorer in the lipofilling 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 believe that Long follow up only will tell us which the most suitable treatment for each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F22-C8C0-4599-B51D-81E9322F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FFE-6FBF-48EB-813E-9DEEF4F3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8AF-DDDE-417F-992E-41F85E82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F33-212E-405A-B156-D43FA1BC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7A3-7877-4352-B318-35A5B786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F66-5350-473F-BC17-92C2013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EE32-CA96-4113-961F-D7023766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2C4-25C0-407D-A0B3-3F0F632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DC48-CF89-4547-8469-7DBCE9D9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7E00-A356-402A-AAEE-8F84701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DAD6-1570-413D-9BB8-B454A1A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7CA-6DCF-4C64-AF57-2EB8743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BCFC-BBF4-40F9-BEB3-ECFD136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CF5F-36A7-44C3-9F1B-6480335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6FFF-E97D-4793-9A1A-E3BCAB20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E846-B2C5-4102-A44A-6855DFCD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AF3-A5EE-42EA-8F96-2FF544F2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9AE-6598-4CE3-B347-DC3EC614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4C4-94A8-4157-A0B5-E05528A5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8AF-B1B9-4296-9DD2-16DA234F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7C8-09F7-47D4-95FA-78F69A1E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AB1-1695-4337-81B9-1741FE1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75E-EB85-4DE7-9D96-459D110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87C-E73C-4E2C-990A-0C84CBE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e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AC25-8FB8-4FC7-851C-CE56817C371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e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6E1-2D35-4726-ADCE-74DA36E68EC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eaa44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9900"/>
                </a:solidFill>
                <a:latin typeface="Arial"/>
              </a:rPr>
              <a:t>PARTE TER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99"/>
                </a:solidFill>
                <a:latin typeface="Comic Sans MS"/>
              </a:rPr>
              <a:t>ACCUMULO ADIPOSO ADDOMINALE SOTTOCUTANEO</a:t>
            </a:r>
            <a:endParaRPr b="0" lang="en-US" sz="29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292392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99"/>
                </a:solidFill>
                <a:latin typeface="Comic Sans MS"/>
              </a:rPr>
              <a:t>2. Lipoatrofia del volto</a:t>
            </a:r>
            <a:br>
              <a:rPr sz="4200"/>
            </a:br>
            <a:r>
              <a:rPr b="0" lang="en-GB" sz="3400" spc="-1" strike="noStrike">
                <a:solidFill>
                  <a:srgbClr val="000099"/>
                </a:solidFill>
                <a:latin typeface="Comic Sans MS"/>
              </a:rPr>
              <a:t>Bolla del Bichat (?)*</a:t>
            </a:r>
            <a:br>
              <a:rPr sz="3400"/>
            </a:br>
            <a:r>
              <a:rPr b="0" lang="en-GB" sz="3400" spc="-1" strike="noStrike">
                <a:solidFill>
                  <a:srgbClr val="000099"/>
                </a:solidFill>
                <a:latin typeface="Comic Sans MS"/>
              </a:rPr>
              <a:t>Regione geniena</a:t>
            </a:r>
            <a:br>
              <a:rPr sz="3400"/>
            </a:br>
            <a:r>
              <a:rPr b="0" lang="en-GB" sz="3400" spc="-1" strike="noStrike">
                <a:solidFill>
                  <a:srgbClr val="000099"/>
                </a:solidFill>
                <a:latin typeface="Comic Sans MS"/>
              </a:rPr>
              <a:t>Regione zigomatica</a:t>
            </a:r>
            <a:br>
              <a:rPr sz="3400"/>
            </a:br>
            <a:r>
              <a:rPr b="0" lang="en-GB" sz="3400" spc="-1" strike="noStrike">
                <a:solidFill>
                  <a:srgbClr val="000099"/>
                </a:solidFill>
                <a:latin typeface="Comic Sans MS"/>
              </a:rPr>
              <a:t>Regione temporale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3300"/>
                </a:solidFill>
                <a:latin typeface="Comic Sans MS"/>
              </a:rPr>
              <a:t>Trattamento della lipoatrofia al volto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Tecniche chiurg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nesti dermo-adiposi li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tesi zigom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pofilling secondo </a:t>
            </a: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tecnica di Coleman</a:t>
            </a:r>
            <a:br>
              <a:rPr sz="2000"/>
            </a:br>
            <a:r>
              <a:rPr b="0" lang="en-GB" sz="2000" spc="-1" strike="noStrike">
                <a:solidFill>
                  <a:srgbClr val="cc3300"/>
                </a:solidFill>
                <a:latin typeface="Comic Sans MS"/>
              </a:rPr>
              <a:t>(Autotrapianto di tessuto adipo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Riempi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Materiali non riassorb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Materiali riassorb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2060640"/>
            <a:ext cx="11430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514600"/>
            <a:ext cx="11430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Plastic Surgery for Facial Lipoatrophy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9440" y="1859040"/>
            <a:ext cx="5254560" cy="4292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844640"/>
            <a:ext cx="295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utologoaus        fat transfer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(Coleman’s techn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87280" y="3314880"/>
            <a:ext cx="2376720" cy="1380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50920" y="5229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cc3300"/>
                </a:solidFill>
                <a:latin typeface="Comic Sans MS"/>
              </a:rPr>
              <a:t>Plastic Surgery for Facial Lipoatrophy</a:t>
            </a:r>
            <a:endParaRPr b="0" lang="en-US" sz="3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87640" y="1857240"/>
            <a:ext cx="5256360" cy="4294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360" y="3213000"/>
            <a:ext cx="295272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Polylact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661000"/>
            <a:ext cx="2950920" cy="459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Polyacrylamide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5229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4005360"/>
            <a:ext cx="2160720" cy="2156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521080" cy="858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58920" y="378936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PROSPECIVE, PARTIALLY RANDOMIZED, 24 WEEK STUDY TO COMPARE THE EFFICACY AND DURABILITY OF DIFFERENT SURGICAL TECNIQUES AND INTERVENTIONS FOR THE TREATMENT OF HIV-RELATED FACIAL LIPOATR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3336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mic Sans MS"/>
              </a:rPr>
              <a:t>Clinica Metabo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mic Sans MS"/>
              </a:rPr>
              <a:t>dell’Università degli Studi di Mo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Entry Criteria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lusi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cumented HIV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D diagnosis with facial w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e›18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ing on HAART for at least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clusi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D4&lt;100 cell/µ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morrhagic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rombcytopenia (&lt;50000/µ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rgeon’s opinions of no aesthetic 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willingness to be followed up for 12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 cirrhosis (for lipofilling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Materials and Method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573360"/>
            <a:ext cx="2663640" cy="1326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ff"/>
                </a:solidFill>
                <a:latin typeface="Comic Sans MS"/>
              </a:rPr>
              <a:t>24 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ff"/>
                </a:solidFill>
                <a:latin typeface="Comic Sans MS"/>
              </a:rPr>
              <a:t>15 male 9 fe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ff"/>
                </a:solidFill>
                <a:latin typeface="Comic Sans MS"/>
              </a:rPr>
              <a:t>2 reinterve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602160"/>
            <a:ext cx="2664000" cy="1326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20 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14 male 6 fe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Mean 5 in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02160"/>
            <a:ext cx="2664000" cy="1326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mic Sans MS"/>
              </a:rPr>
              <a:t>15 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mic Sans MS"/>
              </a:rPr>
              <a:t>12 male 3 fe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mic Sans MS"/>
              </a:rPr>
              <a:t>Mean 6 in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844640"/>
            <a:ext cx="295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utologoaus        fat transfer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(Coleman’s techn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Polylact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92720" y="21337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Polyacrylamide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Outcome Variable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ltrasound (dermal and subcutaneous thick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Subjec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ssessment of body Change and Distress (ABC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ce aesthetic satisfaction (Visual Analogue Scale – 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icture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Aesthetic Satisfaction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lastic surgerons decided on a clinical basis and in comparison of a pre-lipodystrophy pictures of the patient’s face the amount of fat (mL) to be used as g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umber of injections of Polylactic acid and Polacrylamide was not fixed: concordance between patient desire and plastic surgeron’s opinion on aesthetic result was necessary to continue in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3213000"/>
            <a:ext cx="81788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omic Sans MS"/>
              </a:rPr>
              <a:t>…</a:t>
            </a:r>
            <a:r>
              <a:rPr b="0" lang="en-GB" sz="3600" spc="-1" strike="noStrike">
                <a:solidFill>
                  <a:srgbClr val="cc3300"/>
                </a:solidFill>
                <a:latin typeface="Comic Sans MS"/>
              </a:rPr>
              <a:t>Cosa la chirurgia non può fare</a:t>
            </a:r>
            <a:br>
              <a:rPr sz="4800"/>
            </a:br>
            <a:br>
              <a:rPr sz="4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Accumulo adiposo intraperitoneal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Lipoatrofia degli arti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Lipoatrofia dei glutei (?)</a:t>
            </a:r>
            <a:br>
              <a:rPr sz="2800"/>
            </a:b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Statistical Evaluation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imary outcome was the W24-W0 differences for all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arison of cheek  thickness, VAS and ABCD score changes were tested by ANOVA (Alpha=.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st hoc comparisons were adjusted according to Bonferroni’s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Demographic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650960"/>
          <a:ext cx="7993080" cy="46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50960"/>
                    <a:ext cx="799308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cc3300"/>
                </a:solidFill>
                <a:latin typeface="Comic Sans MS"/>
              </a:rPr>
              <a:t>Results: Ultrasound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628640"/>
          <a:ext cx="251964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2519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708360" y="1628640"/>
          <a:ext cx="2519280" cy="25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628640"/>
                    <a:ext cx="251928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516720" y="1628640"/>
          <a:ext cx="2519280" cy="251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628640"/>
                    <a:ext cx="251928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72120"/>
          <a:ext cx="8910720" cy="2493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272120"/>
                    <a:ext cx="891072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Results: Aesthetic Satisfaction (VAS)</a:t>
            </a:r>
            <a:r>
              <a:rPr b="0" lang="it-IT" sz="3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87280" y="1700280"/>
          <a:ext cx="215928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21592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95640" y="1700280"/>
          <a:ext cx="215892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70028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732720" y="1700280"/>
          <a:ext cx="2158920" cy="21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170028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0" y="4081320"/>
          <a:ext cx="9010800" cy="2508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081320"/>
                    <a:ext cx="901080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Results: Assessment of Body Change and Distress (ABCD)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60320" y="1724040"/>
          <a:ext cx="809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1724040"/>
                    <a:ext cx="809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cc3300"/>
                </a:solidFill>
                <a:latin typeface="Comic Sans MS"/>
              </a:rPr>
              <a:t>Adverse Events</a:t>
            </a:r>
            <a:endParaRPr b="0" lang="en-US" sz="3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2781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Autologoaus        f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278136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4/24</a:t>
            </a: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 Hamster syndrome (1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9/24</a:t>
            </a: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 Aesthetic re-touch (3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12/24</a:t>
            </a:r>
            <a:r>
              <a:rPr b="0" lang="it-IT" sz="2400" spc="-1" strike="noStrike">
                <a:solidFill>
                  <a:srgbClr val="0099ff"/>
                </a:solidFill>
                <a:latin typeface="Comic Sans MS"/>
              </a:rPr>
              <a:t> Mild face oedema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4584600"/>
            <a:ext cx="6264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Comic Sans MS"/>
              </a:rPr>
              <a:t>8/20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 Incomplete PLA  absor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(4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773360"/>
            <a:ext cx="8532720" cy="923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serious adverse event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were observed in the sam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 skin infections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580536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Excellent tollera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5734080"/>
            <a:ext cx="25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Polyacrylamide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484520"/>
            <a:ext cx="25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Polylact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cc3300"/>
                </a:solidFill>
                <a:latin typeface="Comic Sans MS"/>
              </a:rPr>
              <a:t>Conclusions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 three interventional techniques were highly effective in  improving the  aesthetic satisfaction of the pati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were no significant differences in objective and in aestetic variables between three study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dy image outcome (ABCD) was poorer in the lipofilling 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nger follow up and larger studies are needed to  discriminate the most suitable treatment in terms of du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0" y="2749680"/>
          <a:ext cx="457200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49680"/>
                    <a:ext cx="45720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00600" y="228600"/>
            <a:ext cx="3962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1. Accumulo adiposo intraperitone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87640" y="2924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omic Sans MS"/>
              </a:rPr>
              <a:t>Ernie ventr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492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Lipoatrofia degli ar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con dilatazione delle vene superfici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5160" y="4221000"/>
            <a:ext cx="7351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omic Sans MS"/>
              </a:rPr>
              <a:t>Cosa la chirurgia può fare…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988640"/>
            <a:ext cx="7442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Gobba di bufalo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Regione mentoniera 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Regione occipitale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Regione mammaria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Regione deltoidea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Regione dorsale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terno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Addome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Fianchi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acro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Pube</a:t>
            </a:r>
            <a:endParaRPr b="0" lang="en-US" sz="25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049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omic Sans MS"/>
              </a:rPr>
              <a:t>1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cc3300"/>
                </a:solidFill>
                <a:latin typeface="Comic Sans MS"/>
              </a:rPr>
              <a:t>Accumuli adiposi sottocutan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cc3300"/>
                </a:solidFill>
                <a:latin typeface="Comic Sans MS"/>
              </a:rPr>
              <a:t>Tecnica chirurgica</a:t>
            </a:r>
            <a:endParaRPr b="0" lang="en-US" sz="4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Liposuzion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utilizzo di cannule che meccanicamente frammentano il tessuto adiposo, che viene aspirato manualmente o con aspirat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Liposuzione a ultrasuoni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la cannula dell’operatore emette ultrasuoni in grado di sciogliere parzialmente il materiale lipidico. Particolarmente indicata in caso di lipoaccumulo con presenza di tralci fibr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a4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Escissione chirugica totale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dicata in caso di recidiva o nelle forme a prevalenza fibrosi con notevole spessore di de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Non è nota in letteratura l’incidenza di recidiva che appare aneddoticamente un evento freq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Comic Sans MS"/>
              </a:rPr>
              <a:t>GOBBE DI BU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42:34Z</dcterms:created>
  <dc:creator>.</dc:creator>
  <dc:description/>
  <dc:language>en-US</dc:language>
  <cp:lastModifiedBy>Nadir</cp:lastModifiedBy>
  <dcterms:modified xsi:type="dcterms:W3CDTF">2005-09-12T12:27:07Z</dcterms:modified>
  <cp:revision>216</cp:revision>
  <dc:subject/>
  <dc:title>Nessun titolo diapositiva</dc:title>
</cp:coreProperties>
</file>