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3.wmf" ContentType="image/x-wmf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2.wmf" ContentType="image/x-wmf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9.jpeg" ContentType="image/jpeg"/>
  <Override PartName="/ppt/media/image23.wmf" ContentType="image/x-wmf"/>
  <Override PartName="/ppt/media/image1.png" ContentType="image/png"/>
  <Override PartName="/ppt/media/image27.wmf" ContentType="image/x-wmf"/>
  <Override PartName="/ppt/media/image15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33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B324-A8DD-4DAF-98A7-1672D64D29FC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eman’s technique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an be summarized in 4 step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. Harvesting of fat graft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Generally from subcute of the abdomen, need to be performed with a minimum manual negative vacuum  in order not to destroy fa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. Centrifu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.Purification so that to remove non viable fat cells, oil and lidoca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4. Placement of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graft with injection in different layer in order to provides nutrition and allowsthe fat to anchors the host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urgical procedure is performed either in local or in genaral anestesia.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12 hours postoperatively ice packs are applied on the infiltrated sites in order to reduce oedem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alylactic acyd and Polacrylamide are filler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lylactic acid  is injected in the dermis and allows neo collagenogenesis due to an inflammation reaction. After a couple of weeks the material is metabolized and no long time toxicities may come out. A long follow up experience presented at the CROI this year suggest that in order to mantain a sufficient dermal thokness some PLA injections are needed from time to time. This is the only filler material approuved fron FDA for the tratment of HV realated facial arop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lacrylamide gel is a biocompatible non reabsobable material consisting of 2.5% cross-linked polacrylamide and 97.5% water acting by adding volume to the subcutaneous tissue. Local anestesia is not needed as a 27G needle is used for injection.. No cases of fibrosis or granuloma have ever been documented in 3 yrs follow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ftern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’m an Infectious Disease doctor and I’m the person in charge of the metabolic clinic of University of Modena.  I believe is relevant that surgical experience I’m going to present has been held in the context of a multidisciplinary t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se are all the people involved in our program and in partcular I wolud like to thank the Italian NGO Nadir for a specific grant given to this pro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lipidemia definition (at least one of the following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C&gt;2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DL&gt;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G&gt;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DL&lt;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tered glucose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&gt;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MA&g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P-III definition (at least 3 of the following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&gt;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G&gt;1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DL&lt;40 (Women), &lt;50 (m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P systolic&gt;1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P diastolic&gt;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ist circumpherence &gt;88 cm (women), &lt;102 (m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eman’s technique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an be summarized in 4 step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. Harvesting of fat graft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Generally from subcute of the abdomen, need to be performed with a minimum manual negative vacuum  in order not to destroy fa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. Centrifu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.Purification so that to remove non viable fat cells, oil and lidoca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4. Placement of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graft with injection in different layer in order to provides nutrition and allowsthe fat to anchors the host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urgical procedure is performed either in local or in genaral anestesia.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12 hours postoperatively ice packs are applied on the infiltrated sites in order to reduce oedem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alylactic acyd and Polacrylamide are filler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lylactic acid  is injected in the dermis and allows neo collagenogenesis due to an inflammation reaction. After a couple of weeks the material is metabolized and no long time toxicities may come out. A long follow up experience presented at the CROI this year suggest that in order to mantain a sufficient dermal thokness some PLA injections are needed from time to time. This is the only filler material approuved fron FDA for the tratment of HV realated facial arop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lacrylamide gel is a biocompatible non reabsobable material consisting of 2.5% cross-linked polacrylamide and 97.5% water acting by adding volume to the subcutaneous tissue. Local anestesia is not needed as a 27G needle is used for injection.. No cases of fibrosis or granuloma have ever been documented in 3 yrs follow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BB9-4FD2-4637-9408-E60E6BDC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A85-3CA1-4819-A69A-1B147395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600-0350-4C00-B295-0EA6C84C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7C3E-1093-48C5-8986-BFD506A1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AADC-7A49-485D-A8C6-5C97C974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9B9C-6712-4E02-A4D4-DF5B6A23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27D5-052B-4449-9A4F-278A9A16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2653-48AE-4A8D-86FC-7C3DD960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3EA3-90BD-4725-AEDE-79E746AA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6C75-F129-4784-8364-58B55760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1EEC-6365-4F76-AEBF-2139156A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B71-E07E-48DC-AED4-2DA4AE77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8655-63FA-40A4-96D4-C00925A1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7C19-A902-445A-8AB1-7506AE15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8A92-2AB0-4636-A1D0-C9C589AF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D9B0-36D5-451B-ABC8-E0FD53C6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2F62-0F65-4194-B986-3AB96227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A597-AA43-4E89-8E77-BE79F6F9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7A7E-59CC-4DF6-85E7-F13D6F80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473-C1FF-4D0A-913B-5837DBF3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946-CE63-4DED-BB85-385B1C5D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BA8-3694-4934-ADE2-2801AB0E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8879-56B7-4AE5-B3F3-B649EF2B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6F2-46C3-4381-86B2-295D23D9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feaa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eaa44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9B9C-5111-426D-9A02-6A6F452D8F03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feaa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4B9F-8DE7-415D-8BF0-797F058ADC25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eaa44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8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8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9900"/>
                </a:solidFill>
                <a:latin typeface="Arial"/>
              </a:rPr>
              <a:t>PARTE QUAR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Comic Sans MS"/>
              </a:rPr>
              <a:t>LD diagnosis 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6120" y="2262240"/>
            <a:ext cx="3362400" cy="25160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2281320"/>
            <a:ext cx="3362400" cy="2517840"/>
          </a:xfrm>
          <a:prstGeom prst="ellipse">
            <a:avLst/>
          </a:prstGeom>
          <a:solidFill>
            <a:srgbClr val="feaa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2281320"/>
            <a:ext cx="3362400" cy="2517840"/>
          </a:xfrm>
          <a:prstGeom prst="ellips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6120" y="2281320"/>
            <a:ext cx="3362400" cy="251784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76680" y="3657600"/>
            <a:ext cx="3363840" cy="251604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39160" y="4654440"/>
            <a:ext cx="19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Body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l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33080" y="3138480"/>
            <a:ext cx="17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Metabo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l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83760" y="2951280"/>
            <a:ext cx="21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Morpholog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l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94640" y="5305320"/>
            <a:ext cx="320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OS-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Beck Inventory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77080" y="1066680"/>
            <a:ext cx="1798560" cy="6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187280" y="0"/>
          <a:ext cx="716472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71647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914400" y="1484280"/>
            <a:ext cx="7772400" cy="46465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3300"/>
                </a:solidFill>
                <a:latin typeface="Comic Sans MS"/>
              </a:rPr>
              <a:t>The Metabolic Clinic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nical Lipodystrophy diagnos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990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Health edu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990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Trea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3300"/>
                </a:solidFill>
                <a:latin typeface="Comic Sans MS"/>
              </a:rPr>
              <a:t>Lecture, Peer education, WEB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92360" y="1844640"/>
          <a:ext cx="61308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44640"/>
                    <a:ext cx="61308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187280" y="0"/>
          <a:ext cx="716472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71647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914400" y="1484280"/>
            <a:ext cx="7772400" cy="46465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3300"/>
                </a:solidFill>
                <a:latin typeface="Comic Sans MS"/>
              </a:rPr>
              <a:t>The Metabolic Clinic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podystrophy diagnos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lth edu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990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990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9900"/>
                </a:solidFill>
                <a:latin typeface="Comic Sans MS"/>
              </a:rPr>
              <a:t>Trea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45960" y="4287960"/>
            <a:ext cx="2424240" cy="15602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5535720"/>
            <a:ext cx="3117600" cy="10144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80080" y="4522680"/>
            <a:ext cx="1940040" cy="9352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94400" y="2260440"/>
            <a:ext cx="2286000" cy="124776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8280" y="1182600"/>
            <a:ext cx="2909880" cy="10908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2480" y="2313000"/>
            <a:ext cx="1801800" cy="10922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107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cc3300"/>
                </a:solidFill>
                <a:latin typeface="Comic Sans MS"/>
              </a:rPr>
              <a:t>Specialist consultants </a:t>
            </a:r>
            <a:br>
              <a:rPr sz="3000"/>
            </a:b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95640" y="2565360"/>
            <a:ext cx="4572000" cy="2651040"/>
          </a:xfrm>
          <a:prstGeom prst="ellipse">
            <a:avLst/>
          </a:prstGeom>
          <a:solidFill>
            <a:srgbClr val="ffffe1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8960" y="2573280"/>
            <a:ext cx="16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cal tr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97720" y="4708440"/>
            <a:ext cx="193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32000" y="1484280"/>
            <a:ext cx="26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ycholo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24560" y="2400480"/>
            <a:ext cx="24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stic surge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5800" y="45054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59280" y="580536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tritio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77080" y="847800"/>
            <a:ext cx="1798560" cy="636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132000" y="2997360"/>
            <a:ext cx="264816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45960" y="4287960"/>
            <a:ext cx="2424240" cy="15602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5535720"/>
            <a:ext cx="3117600" cy="10144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80080" y="4522680"/>
            <a:ext cx="1940040" cy="9352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94400" y="2260440"/>
            <a:ext cx="2286000" cy="124776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8280" y="1182600"/>
            <a:ext cx="2909880" cy="10908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2480" y="2313000"/>
            <a:ext cx="1801800" cy="10922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2852640"/>
            <a:ext cx="3456000" cy="2148120"/>
          </a:xfrm>
          <a:prstGeom prst="ellipse">
            <a:avLst/>
          </a:prstGeom>
          <a:solidFill>
            <a:srgbClr val="ffffe1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8960" y="2573280"/>
            <a:ext cx="16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cal tr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97720" y="4708440"/>
            <a:ext cx="193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1484280"/>
            <a:ext cx="26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ycholo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24560" y="2400480"/>
            <a:ext cx="24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stic surge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5800" y="45054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59280" y="580536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tritio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77080" y="847800"/>
            <a:ext cx="1798560" cy="636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79640" y="220500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3300"/>
                </a:solidFill>
                <a:latin typeface="Comic Sans MS"/>
              </a:rPr>
              <a:t>Body image interventions and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16360" y="3500280"/>
            <a:ext cx="331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cc3300"/>
                </a:solidFill>
                <a:latin typeface="Comic Sans MS"/>
              </a:rPr>
              <a:t>Treatmen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64360" y="357336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Autologous fat transfer, filler injections, lipos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6491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Dietary counselling and thera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5805360"/>
            <a:ext cx="27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3300"/>
                </a:solidFill>
                <a:latin typeface="Comic Sans MS"/>
              </a:rPr>
              <a:t>Antiretroviral switching and 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5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e1"/>
                </a:solidFill>
                <a:latin typeface="Comic Sans MS"/>
              </a:rPr>
              <a:t>Co</a:t>
            </a: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mbined aerobic and </a:t>
            </a:r>
            <a:r>
              <a:rPr b="0" lang="en-GB" sz="1800" spc="-1" strike="noStrike">
                <a:solidFill>
                  <a:srgbClr val="ffffe1"/>
                </a:solidFill>
                <a:latin typeface="Comic Sans MS"/>
              </a:rPr>
              <a:t>s</a:t>
            </a: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trength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16720" y="55897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Fibrate or stat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Metfo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Comic Sans MS"/>
              </a:rPr>
              <a:t>Lipodystrophy vs Metabolic syndrome 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6120" y="2262240"/>
            <a:ext cx="3362400" cy="25160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2281320"/>
            <a:ext cx="3362400" cy="2517840"/>
          </a:xfrm>
          <a:prstGeom prst="ellipse">
            <a:avLst/>
          </a:prstGeom>
          <a:solidFill>
            <a:srgbClr val="feaa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7080" y="2281320"/>
            <a:ext cx="3362400" cy="2517840"/>
          </a:xfrm>
          <a:prstGeom prst="ellips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6120" y="2281320"/>
            <a:ext cx="3362400" cy="251784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31760" y="3138480"/>
            <a:ext cx="23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Lipodystro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20640" y="2951280"/>
            <a:ext cx="170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Metabo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77080" y="1066680"/>
            <a:ext cx="1798560" cy="636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268360" y="5445000"/>
            <a:ext cx="71280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00"/>
                </a:solidFill>
                <a:latin typeface="Comic Sans MS"/>
              </a:rPr>
              <a:t>ATP-III definition Metabbolic Syndrome  (at least 3 of the following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Glu&gt;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G&gt;1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DL&lt;40 (Women), &lt;50 (m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P systolic&gt;1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P diastolic&gt;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aist circumpherence &gt;88 cm (women), &lt;102 (m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Comic Sans MS"/>
              </a:rPr>
              <a:t>Currently available treatment options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Lifestyl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Hypoglycemic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etform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azolidined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Lipid-lowering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bra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tati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4272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Switching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ymidine analogue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RTI sparing reg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Plastic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pos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pof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bsorbable facial im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 reabsorbable facial im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978280" y="1182600"/>
            <a:ext cx="2909880" cy="10908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71640" y="2852640"/>
            <a:ext cx="3456000" cy="2148120"/>
          </a:xfrm>
          <a:prstGeom prst="ellipse">
            <a:avLst/>
          </a:prstGeom>
          <a:solidFill>
            <a:srgbClr val="ffffe1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32000" y="1484280"/>
            <a:ext cx="26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ycholo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77080" y="847800"/>
            <a:ext cx="1798560" cy="636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979640" y="220500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3300"/>
                </a:solidFill>
                <a:latin typeface="Comic Sans MS"/>
              </a:rPr>
              <a:t>Body image interventions and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16360" y="3500280"/>
            <a:ext cx="331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cc3300"/>
                </a:solidFill>
                <a:latin typeface="Comic Sans MS"/>
              </a:rPr>
              <a:t>Treatmen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COLLOQUIO PSICOLOGICO</a:t>
            </a:r>
            <a:r>
              <a:rPr b="1" lang="it-IT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37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ogli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ut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stegno del paz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00"/>
                </a:solidFill>
                <a:latin typeface="Comic Sans MS"/>
              </a:rPr>
              <a:t>Can Lipoatrophy be Rever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Aspetti psicologici:</a:t>
            </a:r>
            <a:r>
              <a:rPr b="0" lang="it-IT" sz="4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5640" y="1828440"/>
            <a:ext cx="7723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Percezione immagine corpore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TG-Assessment of Body Change and Distress (ACTG-ABC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Qualità di vit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dical Outcome Study-HIV (MOS-H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Depressione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ck Depression Inventory (B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Risultati</a:t>
            </a:r>
            <a:r>
              <a:rPr b="0" lang="it-IT" sz="4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glioramento significativo della percezione dell’immagine corp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glioramento significativo della qualità di v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glioramento significativo della depres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3860640"/>
            <a:ext cx="72738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integrazione di livello sovraordinato con ricadute significative sul livello complessivo della qualità della cura</a:t>
            </a:r>
            <a:endParaRPr b="0" lang="en-US" sz="3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177336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Comic Sans MS"/>
              </a:rPr>
              <a:t>MEDICINA E PSICOLO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494400" y="2260440"/>
            <a:ext cx="2286000" cy="124776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8280" y="1182600"/>
            <a:ext cx="2909880" cy="10908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2852640"/>
            <a:ext cx="3456000" cy="2148120"/>
          </a:xfrm>
          <a:prstGeom prst="ellipse">
            <a:avLst/>
          </a:prstGeom>
          <a:solidFill>
            <a:srgbClr val="ffffe1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32000" y="1484280"/>
            <a:ext cx="26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ycholo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4560" y="2400480"/>
            <a:ext cx="24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stic surge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877080" y="847800"/>
            <a:ext cx="1798560" cy="636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979640" y="220500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3300"/>
                </a:solidFill>
                <a:latin typeface="Comic Sans MS"/>
              </a:rPr>
              <a:t>Body image interventions and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16360" y="3500280"/>
            <a:ext cx="331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cc3300"/>
                </a:solidFill>
                <a:latin typeface="Comic Sans MS"/>
              </a:rPr>
              <a:t>Treatmen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64360" y="357336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Autologous fat transfer, filler injections, lipos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cc3300"/>
                </a:solidFill>
                <a:latin typeface="Comic Sans MS"/>
              </a:rPr>
              <a:t>Plastic Surgery for Facial Lipoatrophy</a:t>
            </a:r>
            <a:endParaRPr b="0" lang="en-US" sz="3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89440" y="1859040"/>
            <a:ext cx="5254560" cy="4292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84360" y="1844640"/>
            <a:ext cx="295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Autologoaus        fat transfer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(Coleman’s techn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11280" y="3478320"/>
            <a:ext cx="1403280" cy="1052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2484360" y="346392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611280" y="4941720"/>
            <a:ext cx="1133280" cy="1511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2411280" y="5229360"/>
            <a:ext cx="1440000" cy="1082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00000" y="45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87640" y="45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6491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6491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cc3300"/>
                </a:solidFill>
                <a:latin typeface="Comic Sans MS"/>
              </a:rPr>
              <a:t>Plastic Surgery for Facial Lipoatrophy</a:t>
            </a:r>
            <a:endParaRPr b="0" lang="en-US" sz="3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887640" y="1857240"/>
            <a:ext cx="5256360" cy="4294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84360" y="3213000"/>
            <a:ext cx="2952720" cy="4597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Polylact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4360" y="5661000"/>
            <a:ext cx="2950920" cy="45972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Polyacrylamide</a:t>
            </a:r>
            <a:r>
              <a:rPr b="0" lang="it-IT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24000" y="5229360"/>
            <a:ext cx="2160720" cy="215640"/>
          </a:xfrm>
          <a:custGeom>
            <a:avLst/>
            <a:gdLst>
              <a:gd name="textAreaLeft" fmla="*/ 337320 w 2160720"/>
              <a:gd name="textAreaRight" fmla="*/ 1890720 w 21607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24000" y="4005360"/>
            <a:ext cx="2160720" cy="215640"/>
          </a:xfrm>
          <a:custGeom>
            <a:avLst/>
            <a:gdLst>
              <a:gd name="textAreaLeft" fmla="*/ 337320 w 2160720"/>
              <a:gd name="textAreaRight" fmla="*/ 1890720 w 21607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494400" y="2260440"/>
            <a:ext cx="2286000" cy="124776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78280" y="1182600"/>
            <a:ext cx="2909880" cy="10908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2480" y="2313000"/>
            <a:ext cx="1801800" cy="10922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71640" y="2852640"/>
            <a:ext cx="3456000" cy="2148120"/>
          </a:xfrm>
          <a:prstGeom prst="ellipse">
            <a:avLst/>
          </a:prstGeom>
          <a:solidFill>
            <a:srgbClr val="ffffe1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8960" y="2573280"/>
            <a:ext cx="16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cal tr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32000" y="1484280"/>
            <a:ext cx="26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ycholo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24560" y="2400480"/>
            <a:ext cx="24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stic surge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877080" y="847800"/>
            <a:ext cx="1798560" cy="636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979640" y="220500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3300"/>
                </a:solidFill>
                <a:latin typeface="Comic Sans MS"/>
              </a:rPr>
              <a:t>Body image interventions and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16360" y="3500280"/>
            <a:ext cx="331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cc3300"/>
                </a:solidFill>
                <a:latin typeface="Comic Sans MS"/>
              </a:rPr>
              <a:t>Treatmen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64360" y="357336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Autologous fat transfer, filler injections, lipos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5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e1"/>
                </a:solidFill>
                <a:latin typeface="Comic Sans MS"/>
              </a:rPr>
              <a:t>Co</a:t>
            </a: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mbined aerobic and </a:t>
            </a:r>
            <a:r>
              <a:rPr b="0" lang="en-GB" sz="1800" spc="-1" strike="noStrike">
                <a:solidFill>
                  <a:srgbClr val="ffffe1"/>
                </a:solidFill>
                <a:latin typeface="Comic Sans MS"/>
              </a:rPr>
              <a:t>s</a:t>
            </a: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trength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Obiettivi della terapia fisica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ridurre il rischio cardiovasco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ollare l’obesità centrale talora associata a fenomeni di lipoaccumulo in altre se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are indicazioni di attività motoria finalizzata a ipertrofizzare le masse muscolari correggendo esteticamente la lipoatrofia glutea e degli ar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I principi dell’allenamento</a:t>
            </a:r>
            <a:r>
              <a:rPr b="0" lang="it-IT" sz="4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inuit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eque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ividualizza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gramma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adualità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Le metodologie applicative nell’allenamento con sovraccarichi</a:t>
            </a:r>
            <a:r>
              <a:rPr b="0" lang="it-IT" sz="4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ado di resisten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° ripetizioni e se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mpo di recup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tmo di esecuzio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elta e numero degli eserci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cchine o bilanci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Riunire la sindrome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of the early arguments in the field of lipodystrophy was whether we should take various abnormalities and lump them together as a single syndrome or split them up into individual ent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Comic Sans MS"/>
              </a:rPr>
              <a:t>How to face and treat single entities if they occur together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Protocolli di terapia fisica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81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Dimagrimen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ttraverso attività aerobica e tonificazione della cintura addominale (protocollo Cardiofit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Crescita muscolar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ipertrofia (protocollo rafforza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Modellamento e tonifica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finalità prevent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Programma mis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cross trai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Tonificazione general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 esercizi a carico naturale a domicili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95280" y="1413000"/>
          <a:ext cx="8604360" cy="52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604360" cy="52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77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3300"/>
                </a:solidFill>
                <a:latin typeface="Comic Sans MS"/>
              </a:rPr>
              <a:t>L’esercizio fisico nel trattamento delle alterazioni morfologiche della lipodistrofia</a:t>
            </a:r>
            <a:r>
              <a:rPr b="1" lang="en-GB" sz="4200" spc="-1" strike="noStrike">
                <a:solidFill>
                  <a:srgbClr val="cc3300"/>
                </a:solidFill>
                <a:latin typeface="Arial,Bold"/>
              </a:rPr>
              <a:t> 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cc3300"/>
                </a:solidFill>
                <a:latin typeface="Book Antiqua"/>
              </a:rPr>
              <a:t>Attività fisica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917640" y="2057400"/>
          <a:ext cx="7307280" cy="35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2057400"/>
                    <a:ext cx="730728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426708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CID 2002; 34: 390-3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048120" y="5535720"/>
            <a:ext cx="3117600" cy="10144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94400" y="2260440"/>
            <a:ext cx="2286000" cy="124776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78280" y="1182600"/>
            <a:ext cx="2909880" cy="10908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2480" y="2313000"/>
            <a:ext cx="1801800" cy="10922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71640" y="2852640"/>
            <a:ext cx="3456000" cy="2148120"/>
          </a:xfrm>
          <a:prstGeom prst="ellipse">
            <a:avLst/>
          </a:prstGeom>
          <a:solidFill>
            <a:srgbClr val="ffffe1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8960" y="2573280"/>
            <a:ext cx="16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cal tr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32000" y="1484280"/>
            <a:ext cx="26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ycholo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24560" y="2400480"/>
            <a:ext cx="24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stic surge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580536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tritio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877080" y="847800"/>
            <a:ext cx="1798560" cy="6364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979640" y="220500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3300"/>
                </a:solidFill>
                <a:latin typeface="Comic Sans MS"/>
              </a:rPr>
              <a:t>Body image interventions and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16360" y="3500280"/>
            <a:ext cx="331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cc3300"/>
                </a:solidFill>
                <a:latin typeface="Comic Sans MS"/>
              </a:rPr>
              <a:t>Treatmen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64360" y="357336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Autologous fat transfer, filler injections, lipos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16360" y="6491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Dietary counselling and thera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5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e1"/>
                </a:solidFill>
                <a:latin typeface="Comic Sans MS"/>
              </a:rPr>
              <a:t>Co</a:t>
            </a: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mbined aerobic and </a:t>
            </a:r>
            <a:r>
              <a:rPr b="0" lang="en-GB" sz="1800" spc="-1" strike="noStrike">
                <a:solidFill>
                  <a:srgbClr val="ffffe1"/>
                </a:solidFill>
                <a:latin typeface="Comic Sans MS"/>
              </a:rPr>
              <a:t>s</a:t>
            </a: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trength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Assessment of nutritional status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2760" y="1599840"/>
            <a:ext cx="8178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00"/>
                </a:solidFill>
                <a:latin typeface="Comic Sans MS"/>
              </a:rPr>
              <a:t>Hist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Premorbid weight (“usual weight” before HIV infectio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Weight history since developing HI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Amount of regular exercise and/or weight trai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Presence of opportunistic infections, fever, 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diarrh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History of eating disord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Social and financial issues affecting food availability 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prepa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Dietary history and intake (24-h recall; 3-d food record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food frequency questionnair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Use of alcohol, narcotics, and stimula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00"/>
                </a:solidFill>
                <a:latin typeface="Comic Sans MS"/>
              </a:rPr>
              <a:t>Laborat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Serum album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Vitamin B12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Serum free testostero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Fasting lipid profi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Fasting gluco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400800" y="60958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ID 2003;36: s63-s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cc3300"/>
                </a:solidFill>
                <a:latin typeface="Comic Sans MS"/>
              </a:rPr>
              <a:t>Gli interventi nutrizionali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alutazione di un adeguato accesso quantitativo e qualitativo al cibo del paziente (anamnesi alimentare; diario alimentare 3,5,7g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uns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erapia dietologica (dieta personalizz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ventano oggi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indispensabili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ella gestione clinica del paziente e fanno ritenere necessaria la presenza di un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esperto di nutri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ell’ambito dell’equipe infettivolog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cc3300"/>
                </a:solidFill>
                <a:latin typeface="Comic Sans MS"/>
              </a:rPr>
              <a:t>Counselling nutrizionale e diete personalizzate</a:t>
            </a:r>
            <a:r>
              <a:rPr b="1" lang="it-IT" sz="3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al punto di vista clinico il counselling nutrizionale appare il primo trattamento terapeutico da proporre in ogni soggetto HIV positivo con aumentato rischio cardio-vascolare, attraverso vari ste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utamento dello stile di vita del sog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ospensione dell’ abitudine taba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golare terapia fi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eta personalizzata basata sulle abitudini alimentari del soggetto e le sue preferen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cc3300"/>
                </a:solidFill>
                <a:latin typeface="Comic Sans MS"/>
              </a:rPr>
              <a:t>Obiettivi metabolici della terapia dietetica</a:t>
            </a:r>
            <a:r>
              <a:rPr b="1" lang="it-IT" sz="3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785808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ormalizzazione del BMI e in particolare degli accumuli viscer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rrezione dell’alterato metabolismo gluci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Riduzione del rischio cardio-vascolare secondario alla dislipid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cc3300"/>
                </a:solidFill>
                <a:latin typeface="Comic Sans MS"/>
              </a:rPr>
              <a:t>Obiettivi metabolici della terapia dietetica</a:t>
            </a:r>
            <a:r>
              <a:rPr b="1" lang="it-IT" sz="3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applicazione di linee guida dietetiche finalizzate  alla riduzione dei livelli di colesterolo e trigliceridi ha evidenziato un miglioramento dei parametri metabolici rispettivamente  del 10 e 23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Quando la terapia nutrizionale è associata a terapia farmacologica si ottiene una riduzione  del  32% per la colesterolemia e del 57% per la trigliceri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 utilizzo delle  sole linee guida spesso non  appare in grado di normalizzare i livelli lipem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Lipidi totali</a:t>
            </a:r>
            <a:r>
              <a:rPr b="1" lang="it-IT" sz="4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0920" y="198108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PERCOLESTEROLEMIA ISO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5-30 % delle Kcal to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03280" y="191592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NDROME METABO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30-35 % delle Kcal to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56000" y="2924280"/>
            <a:ext cx="1079280" cy="107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72360" y="2852640"/>
            <a:ext cx="1079280" cy="1079640"/>
          </a:xfrm>
          <a:prstGeom prst="downArrow">
            <a:avLst>
              <a:gd name="adj1" fmla="val 50000"/>
              <a:gd name="adj2" fmla="val 2500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cc3300"/>
                </a:solidFill>
                <a:latin typeface="Comic Sans MS"/>
              </a:rPr>
              <a:t>Acknowledgements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special thanks to all the patients attending the metabolic clinic and to their physicians referring us pati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particular: Vichi Francesca &amp; Mazzotta Francesco - Firenze, Pristileo Tullio - Palermo, Liuzzi Giuseppina - Roma, Penco Giovanni - Genova, Orofino Giancarlo - Torino, Pardelli Riccardo - Livorno, Maserati Renato – Pavia, Nasta Paola – Brescia, Mussini Cristina – Modena, Sterrantino Gaetana – Firenze, De Luca Andrea – Roma, Zoboli Giuliana - Reggio E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cc3300"/>
                </a:solidFill>
                <a:latin typeface="Comic Sans MS"/>
              </a:rPr>
              <a:t>Carboidrati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089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PERCOLESTEROLEMIA ISO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ino a 60% delle Kcal totali come carboidrati tot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NDROME METABO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50 % delle Kcal totali come carboidrati tota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40000" y="2565360"/>
            <a:ext cx="1079640" cy="1079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72360" y="2565360"/>
            <a:ext cx="1079280" cy="1079640"/>
          </a:xfrm>
          <a:prstGeom prst="downArrow">
            <a:avLst>
              <a:gd name="adj1" fmla="val 50000"/>
              <a:gd name="adj2" fmla="val 2500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2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Proteine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1-1,5 g/Kg di Peso Corporeo Ide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ino a 2 g/Kg in presenza di co-infezioni o altri stati patologic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50% delle proteine totali di origine animale e 50% di origine vegetal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cc3300"/>
                </a:solidFill>
                <a:latin typeface="Comic Sans MS"/>
              </a:rPr>
              <a:t>Giornata alimentare tipo per un maschio adulto, sedentario e normopeso</a:t>
            </a:r>
            <a:r>
              <a:rPr b="0" lang="it-IT" sz="3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7786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pporto calorico giornaliero: 2745 K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di cui da alcol: 0 Kc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Proteine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04,4 g, pari al 15,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omic Sans MS"/>
              </a:rPr>
              <a:t>di cui di origine animale 36,9g, pari al 35,2 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omic Sans MS"/>
              </a:rPr>
              <a:t>di cui di origine vegetale 67,5g, pari al 64,8 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Lipid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101,2 g, pari al 33,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omic Sans MS"/>
              </a:rPr>
              <a:t>saturi 6,1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omic Sans MS"/>
              </a:rPr>
              <a:t>monoinsaturi 16,2 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omic Sans MS"/>
              </a:rPr>
              <a:t>polinsaturi 8,3 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arboidra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354 g, pari al 51,6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omic Sans MS"/>
              </a:rPr>
              <a:t>oligosaccaridi 99,8 g, pari al 14,5 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lesterol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73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Fibra total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61,9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alcio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000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048120" y="5535720"/>
            <a:ext cx="3117600" cy="10144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80080" y="4522680"/>
            <a:ext cx="1940040" cy="9352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94400" y="2260440"/>
            <a:ext cx="2286000" cy="124776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8280" y="1182600"/>
            <a:ext cx="2909880" cy="10908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2480" y="2313000"/>
            <a:ext cx="1801800" cy="10922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71640" y="2852640"/>
            <a:ext cx="3456000" cy="2148120"/>
          </a:xfrm>
          <a:prstGeom prst="ellipse">
            <a:avLst/>
          </a:prstGeom>
          <a:solidFill>
            <a:srgbClr val="ffffe1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8960" y="2573280"/>
            <a:ext cx="16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cal tr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97720" y="4708440"/>
            <a:ext cx="193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32000" y="1484280"/>
            <a:ext cx="26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ycholo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24560" y="2400480"/>
            <a:ext cx="24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stic surge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9280" y="580536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tritio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877080" y="847800"/>
            <a:ext cx="1798560" cy="6364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979640" y="220500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3300"/>
                </a:solidFill>
                <a:latin typeface="Comic Sans MS"/>
              </a:rPr>
              <a:t>Body image interventions and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16360" y="3500280"/>
            <a:ext cx="331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cc3300"/>
                </a:solidFill>
                <a:latin typeface="Comic Sans MS"/>
              </a:rPr>
              <a:t>Treatmen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264360" y="357336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Autologous fat transfer, filler injections, lipos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6491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Dietary counselling and thera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5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e1"/>
                </a:solidFill>
                <a:latin typeface="Comic Sans MS"/>
              </a:rPr>
              <a:t>Co</a:t>
            </a: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mbined aerobic and </a:t>
            </a:r>
            <a:r>
              <a:rPr b="0" lang="en-GB" sz="1800" spc="-1" strike="noStrike">
                <a:solidFill>
                  <a:srgbClr val="ffffe1"/>
                </a:solidFill>
                <a:latin typeface="Comic Sans MS"/>
              </a:rPr>
              <a:t>s</a:t>
            </a: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trength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16720" y="55897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Fibrate or stat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Metfo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I presupposti :</a:t>
            </a: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	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Quando è possibile costruire schemi di terapia efficaci che diminuiscano il rischio di danno metabolico o morfologico, tale opzione deve essere considerata prima di fare altri interventi farmacologici o chirurgi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Ad esempio non è necessario introdurre farmaci ipolipemizzanti se è possibile modificare le terapie antiretrovirale in atto tale da ridurre il fenomeno dell’iperlipemia, senza compromettere l’efficacia immunologia o virologica de tratta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cc3300"/>
                </a:solidFill>
                <a:latin typeface="Comic Sans MS"/>
              </a:rPr>
              <a:t>La terapia medica dell’iperlipemia e della resistenza insulinica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pertriglicerid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Fenifibra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percolesterol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Atorvastat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Pravastat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Resistenza insuli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Metform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Rosiglitaz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45960" y="4287960"/>
            <a:ext cx="2424240" cy="15602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8120" y="5535720"/>
            <a:ext cx="3117600" cy="10144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580080" y="4522680"/>
            <a:ext cx="1940040" cy="9352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94400" y="2260440"/>
            <a:ext cx="2286000" cy="124776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78280" y="1182600"/>
            <a:ext cx="2909880" cy="10908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2480" y="2313000"/>
            <a:ext cx="1801800" cy="10922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71640" y="2852640"/>
            <a:ext cx="3456000" cy="2148120"/>
          </a:xfrm>
          <a:prstGeom prst="ellipse">
            <a:avLst/>
          </a:prstGeom>
          <a:solidFill>
            <a:srgbClr val="ffffe1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8960" y="2573280"/>
            <a:ext cx="16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cal tr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97720" y="4708440"/>
            <a:ext cx="193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32000" y="1484280"/>
            <a:ext cx="26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ycholo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24560" y="2400480"/>
            <a:ext cx="24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stic surge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5800" y="45054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59280" y="580536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tritio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877080" y="847800"/>
            <a:ext cx="1798560" cy="6364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979640" y="220500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3300"/>
                </a:solidFill>
                <a:latin typeface="Comic Sans MS"/>
              </a:rPr>
              <a:t>Body image interventions and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16360" y="3500280"/>
            <a:ext cx="331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cc3300"/>
                </a:solidFill>
                <a:latin typeface="Comic Sans MS"/>
              </a:rPr>
              <a:t>Treatmen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64360" y="357336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Autologous fat transfer, filler injections, lipos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16360" y="6491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Dietary counselling and thera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9280" y="5805360"/>
            <a:ext cx="27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3300"/>
                </a:solidFill>
                <a:latin typeface="Comic Sans MS"/>
              </a:rPr>
              <a:t>Antiretroviral switching and 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5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e1"/>
                </a:solidFill>
                <a:latin typeface="Comic Sans MS"/>
              </a:rPr>
              <a:t>Co</a:t>
            </a: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mbined aerobic and </a:t>
            </a:r>
            <a:r>
              <a:rPr b="0" lang="en-GB" sz="1800" spc="-1" strike="noStrike">
                <a:solidFill>
                  <a:srgbClr val="ffffe1"/>
                </a:solidFill>
                <a:latin typeface="Comic Sans MS"/>
              </a:rPr>
              <a:t>s</a:t>
            </a: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trength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16720" y="55897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Fibrate or stat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Metfo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cc3300"/>
                </a:solidFill>
                <a:latin typeface="Comic Sans MS"/>
              </a:rPr>
              <a:t>I presupposti :</a:t>
            </a:r>
            <a:r>
              <a:rPr b="0" lang="it-IT" sz="3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it-IT" sz="3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it-IT" sz="3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it-IT" sz="3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it-IT" sz="3800" spc="-1" strike="noStrike">
                <a:solidFill>
                  <a:srgbClr val="cc3300"/>
                </a:solidFill>
                <a:latin typeface="Comic Sans MS"/>
              </a:rPr>
              <a:t>(1/2)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lipodistrofia deve essere considerata come </a:t>
            </a: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fenomeno attes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el corso dell’infezione da HIV ed evento catalizzato dall’introduzione dei farma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prevenzione della lipodistrofia e la sua evoluzione, oltre che da fattori genetici e comportamentali, dipende da </a:t>
            </a: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quando si inizia la terapia antiretrovirale e dalla scelta dei farmaci da utilizz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Non vi è contraddizione tra la necessità di un controllo virologico dell’infezione da HIV e il trattamento della lipodistrofia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una malattia non controllata rappresenta un rischio evolutivo di lipodistrofia maggiore rispetto al rischio di esposizione farmacolog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cc3300"/>
                </a:solidFill>
                <a:latin typeface="Comic Sans MS"/>
              </a:rPr>
              <a:t>Switching di terapia antiretrovirale per ipertrigliceridemia</a:t>
            </a:r>
            <a:endParaRPr b="0" lang="en-US" sz="3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virapina e atazanavir appaiono i farmaci gravati da minor risch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 rischio di ipertriglceridemia progressivamente crescente deriva da una associazione cmprendente Efavirenz (EFV) &gt;Nelfinavir (NFV) paragonabile a Fosamprenavir (FosAPV) &gt; Laopinavir/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cc3300"/>
                </a:solidFill>
                <a:latin typeface="Comic Sans MS"/>
              </a:rPr>
              <a:t>Switching di terapia antiretrovirale per ipercolesterolemia </a:t>
            </a:r>
            <a:endParaRPr b="0" lang="en-US" sz="3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Nevirapina e atazanavir appaiono i farmaci gravati da minor risch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ell’ambito della classe degli analoghi nucleosidici </a:t>
            </a: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Tenofovi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ha un rischio inferiore di stavudina (d4T) di alterare il pattern lipe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 rischio di </a:t>
            </a: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ipertriglceridemi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gressivamente crescente deriva da una associazione cmprendente Efavirenz (EFV) &gt;Nelfinavir (NFV) paragonabile a Fosamprenavir (FosAPV) &gt; Lopinavir. Per </a:t>
            </a: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ipercolesterolemi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Lopinavir e Nelfinavir sono i farmaci a maggior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cc3300"/>
                </a:solidFill>
                <a:latin typeface="Comic Sans MS"/>
              </a:rPr>
              <a:t>The metabolic clinic staff 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968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aa4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Comic Sans MS"/>
              </a:rPr>
              <a:t>HIV do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- G. Guara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- G. Orlan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- V. Borgh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- R. Esposi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aa4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Comic Sans MS"/>
              </a:rPr>
              <a:t>Psych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- G. Bianc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- M. Vandel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- D. Comel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aa4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Comic Sans MS"/>
              </a:rPr>
              <a:t>Physiatr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- S. Sarti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- C. Bertucel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1828800"/>
            <a:ext cx="54723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Comic Sans MS"/>
              </a:rPr>
              <a:t>Plastic Surge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- G. De Santis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- D. De fa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- A. Pedone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- M. Calleg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- A. Spaggiari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- M. V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- A. Baccarani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- A. Griso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Comic Sans MS"/>
              </a:rPr>
              <a:t>Nutrition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 F. Giuricin - S. Galetti – C. Aldrovan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Comic Sans MS"/>
              </a:rPr>
              <a:t>Internis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 Bertolotti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 F. Carub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Comic Sans MS"/>
              </a:rPr>
              <a:t>Endocrinologis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. Richir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 B. Ama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Comic Sans MS"/>
              </a:rPr>
              <a:t>Cardiolog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. Ro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Comic Sans MS"/>
              </a:rPr>
              <a:t>Sexual Disfunction exp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Comic Sans MS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. Gran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cc3300"/>
                </a:solidFill>
                <a:latin typeface="Comic Sans MS"/>
              </a:rPr>
              <a:t>Switching di terapia antiretrovirale per resistenza insulinica</a:t>
            </a:r>
            <a:endParaRPr b="0" lang="en-US" sz="3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 farmaci maggiormente implicati sono sicuramente gli inibitori della proteas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particolare Indinavir rappresenta il farmaco a maggior rischio. In uno studio comparativo tra Lopinavir/r versus Atazanavir, il primo conferiva una rischio aumentato di iperglicemia e restenza insulinica, al contrario Atazanavir determinava un rischio paragonabile al placebo. </a:t>
            </a: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Atazanavir è quindi l’inibitore della proteasi di scelta nelle persone con rischio di diabe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cc3300"/>
                </a:solidFill>
                <a:latin typeface="Comic Sans MS"/>
              </a:rPr>
              <a:t>Switching di terapia antiretrovirale per alterazioni morfologiche</a:t>
            </a:r>
            <a:endParaRPr b="0" lang="en-US" sz="3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Lipoatro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ssociazioni NRTI spearing (NNRTI+Pi oppure PI+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ssociazioni thimidine analogue sp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DF è equivalente ad 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TI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Lipoipertro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TI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cc3300"/>
                </a:solidFill>
                <a:latin typeface="Comic Sans MS"/>
              </a:rPr>
              <a:t>I presupposti :</a:t>
            </a:r>
            <a:r>
              <a:rPr b="0" lang="it-IT" sz="3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(2/2)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strategie di </a:t>
            </a:r>
            <a:r>
              <a:rPr b="0" lang="it-IT" sz="2800" spc="-1" strike="noStrike">
                <a:solidFill>
                  <a:srgbClr val="ff9900"/>
                </a:solidFill>
                <a:latin typeface="Comic Sans MS"/>
              </a:rPr>
              <a:t>interruzione CD4 guidat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di terapia sono una opzione da considerare, in determinate situazioni cliniche, per permettere una gestione a lungo termine di una terapia antiretrovirale efficace e di un controllo degli effetti collaterali a lungo termine dei trattam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3300"/>
                </a:solidFill>
                <a:latin typeface="Comic Sans MS"/>
              </a:rPr>
              <a:t>Structured treatment interruption (STI)</a:t>
            </a:r>
            <a:endParaRPr b="0" lang="en-US" sz="3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I were offered to all the patients who had CD4&gt;500 cell/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 and had a nadir CD4 cell count&gt;250/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AART regimen was reintroduced in case of CD4 decrease below 300/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cc3300"/>
                </a:solidFill>
                <a:latin typeface="Comic Sans MS"/>
              </a:rPr>
              <a:t>LD can be treated in clinical practice with a comprehensive approach?</a:t>
            </a:r>
            <a:endParaRPr b="0" lang="en-US" sz="31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of the early arguments in the field of lipodystrophy was whether we should take various abnormalities and lump them together as a single syndrome or split them up into individual ent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Comic Sans MS"/>
              </a:rPr>
              <a:t>How to face and treat single entities if they occur together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Comic Sans MS"/>
              </a:rPr>
              <a:t>What is the best comprehensive outcome of L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feaa44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Comic Sans MS"/>
              </a:rPr>
              <a:t>LDC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feaa44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Comic Sans MS"/>
              </a:rPr>
              <a:t>Cardiovascular ris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feaa44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Comic Sans MS"/>
              </a:rPr>
              <a:t>Metabolic syndro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cc3300"/>
                </a:solidFill>
                <a:latin typeface="Comic Sans MS"/>
              </a:rPr>
              <a:t>LD can be treated in clinical practice with a comprehensive approach?</a:t>
            </a:r>
            <a:endParaRPr b="0" lang="en-US" sz="31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of the early arguments in the field of lipodystrophy was whether we should take various abnormalities and lump them together as a single syndrome or split them up into individual ent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Comic Sans MS"/>
              </a:rPr>
              <a:t>How to face and treat single entities if they occur together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Comic Sans MS"/>
              </a:rPr>
              <a:t>What is the best comprehensive outcome of L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feaa44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Comic Sans MS"/>
              </a:rPr>
              <a:t>LDC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feaa44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Comic Sans MS"/>
              </a:rPr>
              <a:t>Cardiovascular ris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feaa44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Comic Sans MS"/>
              </a:rPr>
              <a:t>Metabolic syndro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2521080" cy="8586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258920" y="3933720"/>
            <a:ext cx="72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Comic Sans MS"/>
              </a:rPr>
              <a:t>EFFICACY AND SAFETY OF MEDICAL AND SURGICAL INTERVENTIONS FOR TREATING MORPHOLOGICAL AND METABOLIC ALTERATION. OF HIV-RELATED LIPODYSTROPHY IN A MULTIDISCIPLINARY APPROACH: A 48 WEEKS OBSERVATIONAL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4360" y="333360"/>
            <a:ext cx="6400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mic Sans MS"/>
              </a:rPr>
              <a:t>Clinica Metabo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mic Sans MS"/>
              </a:rPr>
              <a:t>dell’Università degli Studi di Mo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92360" y="6308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Giovanni Guarald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cc3300"/>
                </a:solidFill>
                <a:latin typeface="Comic Sans MS"/>
              </a:rPr>
              <a:t>Objective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scribe lipodystrophy in a well characterized cohort of HIV-positive women and 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ssess efficacy and safety of medical and surgical interventions for treating morphological and metabolic alt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cc3300"/>
                </a:solidFill>
                <a:latin typeface="Comic Sans MS"/>
              </a:rPr>
              <a:t>Materials and methods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4 week follow up observational longitudinal study in consecutive patients attending the Metabolic Clinic (MC) of the University of Mod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nclusion Criteria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feaa44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Pts and physician concordance in lipodystrophy diagno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feaa44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Biochemical, anthropometry and DEXA at basel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Results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95640" y="1484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735 enro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380360" y="1916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0920" y="1989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71(38.8% F)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64 (61.2%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5640" y="1700280"/>
            <a:ext cx="1800360" cy="7855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hrop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iochem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187280" y="0"/>
          <a:ext cx="716472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71647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914400" y="1484280"/>
            <a:ext cx="7772400" cy="46465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3300"/>
                </a:solidFill>
                <a:latin typeface="Comic Sans MS"/>
              </a:rPr>
              <a:t>The Metabolic Clinic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podystrophy diagnos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lth edu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Trea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Results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95640" y="1484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735 enro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35280" y="3716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73 (37.4%) F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289 (62.6%)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380360" y="1916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40000" y="3141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Arial"/>
              </a:rPr>
              <a:t>462 evalu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50920" y="1989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71(38.8% F)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64 (61.2%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5640" y="2997360"/>
            <a:ext cx="1800360" cy="1620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hrop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iochem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x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Results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95640" y="1484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735 enro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35280" y="3716280"/>
            <a:ext cx="540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73 (37.4%) F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289 (62.6%)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Comic Sans MS"/>
              </a:rPr>
              <a:t>70 F HIV- 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80360" y="1916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40000" y="3141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Arial"/>
              </a:rPr>
              <a:t>462 evalu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050920" y="1989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71(38.8% F)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64 (61.2%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2997360"/>
            <a:ext cx="1800360" cy="1620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rop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iochem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x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Results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95640" y="1484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735 enro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35280" y="3716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73 (37.4%) F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289 (62.6%)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79640" y="5589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2 (29.9%) F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75 (70.1%)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68360" y="494172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107 evaluated at follow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80360" y="1916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40000" y="3141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Arial"/>
              </a:rPr>
              <a:t>462 evalu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50920" y="1989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71(38.8% F)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64 (61.2%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4869000"/>
            <a:ext cx="1800360" cy="12027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hrop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iochem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x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Comic Sans MS"/>
              </a:rPr>
              <a:t>Table 1: </a:t>
            </a:r>
            <a:br>
              <a:rPr sz="2600"/>
            </a:br>
            <a:r>
              <a:rPr b="0" lang="en-US" sz="2600" spc="-1" strike="noStrike">
                <a:solidFill>
                  <a:srgbClr val="cc3300"/>
                </a:solidFill>
                <a:latin typeface="Comic Sans MS"/>
              </a:rPr>
              <a:t>Predictors of lipodystrophy and demographic characteristics of the study sample at baseline</a:t>
            </a:r>
            <a:r>
              <a:rPr b="0" lang="it-IT" sz="3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670120" y="1608120"/>
          <a:ext cx="3741840" cy="52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0120" y="1608120"/>
                    <a:ext cx="374184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Table 2: </a:t>
            </a:r>
            <a:br>
              <a:rPr sz="2600"/>
            </a:b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Female to male differences in physical examination  (mean </a:t>
            </a:r>
            <a:r>
              <a:rPr b="0" lang="en-US" sz="2600" spc="-1" strike="noStrike">
                <a:solidFill>
                  <a:srgbClr val="cc3300"/>
                </a:solidFill>
                <a:latin typeface="Symbol"/>
                <a:ea typeface="Symbol"/>
              </a:rPr>
              <a:t></a:t>
            </a:r>
            <a:r>
              <a:rPr b="0" lang="en-US" sz="26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SD)</a:t>
            </a:r>
            <a:r>
              <a:rPr b="0" lang="it-IT" sz="3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614520" y="1844640"/>
          <a:ext cx="8197560" cy="47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1844640"/>
                    <a:ext cx="819756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Table 3: </a:t>
            </a:r>
            <a:br>
              <a:rPr sz="2600"/>
            </a:b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Female to male differences in lipodystrophy diagnosis. (%)</a:t>
            </a:r>
            <a:r>
              <a:rPr b="0" lang="it-IT" sz="3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974880" y="2211480"/>
          <a:ext cx="9023040" cy="368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4880" y="2211480"/>
                    <a:ext cx="902304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5435640" y="4076640"/>
            <a:ext cx="1800360" cy="792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4000" y="5445000"/>
            <a:ext cx="2447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00"/>
                </a:solidFill>
                <a:latin typeface="Comic Sans MS"/>
              </a:rPr>
              <a:t>Dislipidemia definition (at least one of the following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C&gt;2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LDL&gt;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G&gt;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DL&lt;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48360" y="5445000"/>
            <a:ext cx="42480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00"/>
                </a:solidFill>
                <a:latin typeface="Comic Sans MS"/>
              </a:rPr>
              <a:t>ATP-III definition MS  (at least 3 of the following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Glu&gt;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G&gt;1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DL&lt;40 (Women), &lt;50 (m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P systolic&gt;1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P diastolic&gt;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aist circumpherence &gt;88 cm (women), &lt;102 (m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916360" y="5516640"/>
            <a:ext cx="201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00"/>
                </a:solidFill>
                <a:latin typeface="Comic Sans MS"/>
              </a:rPr>
              <a:t>Altered glucose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Glu&gt;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MA&g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3300"/>
                </a:solidFill>
                <a:latin typeface="Comic Sans MS"/>
              </a:rPr>
              <a:t>Cross sectional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46120" y="2262240"/>
            <a:ext cx="3362400" cy="25160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46120" y="2281320"/>
            <a:ext cx="3362400" cy="251784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33080" y="3138480"/>
            <a:ext cx="17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Metabo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l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6877080" y="1066680"/>
            <a:ext cx="1798560" cy="6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Table 4: </a:t>
            </a:r>
            <a:br>
              <a:rPr sz="2600"/>
            </a:b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Female to male differences in metabolic profile at baseline. (mean </a:t>
            </a:r>
            <a:r>
              <a:rPr b="0" lang="en-US" sz="2600" spc="-1" strike="noStrike">
                <a:solidFill>
                  <a:srgbClr val="cc3300"/>
                </a:solidFill>
                <a:latin typeface="Symbol"/>
                <a:ea typeface="Symbol"/>
              </a:rPr>
              <a:t></a:t>
            </a:r>
            <a:r>
              <a:rPr b="0" lang="en-US" sz="26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SD)</a:t>
            </a:r>
            <a:r>
              <a:rPr b="0" lang="it-IT" sz="3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119240" y="1774800"/>
          <a:ext cx="8513640" cy="502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1774800"/>
                    <a:ext cx="8513640" cy="50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3300"/>
                </a:solidFill>
                <a:latin typeface="Comic Sans MS"/>
              </a:rPr>
              <a:t>Cross sectional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2281320"/>
            <a:ext cx="3362400" cy="2517840"/>
          </a:xfrm>
          <a:prstGeom prst="ellipse">
            <a:avLst/>
          </a:prstGeom>
          <a:solidFill>
            <a:srgbClr val="feaa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267080" y="2281320"/>
            <a:ext cx="3362400" cy="2517840"/>
          </a:xfrm>
          <a:prstGeom prst="ellips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83760" y="2951280"/>
            <a:ext cx="21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Morpholog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l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6877080" y="1066680"/>
            <a:ext cx="1798560" cy="6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Table 5: </a:t>
            </a:r>
            <a:br>
              <a:rPr sz="2600"/>
            </a:b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Female to male differences in anthropometry. (mean </a:t>
            </a:r>
            <a:r>
              <a:rPr b="0" lang="en-US" sz="2600" spc="-1" strike="noStrike">
                <a:solidFill>
                  <a:srgbClr val="cc3300"/>
                </a:solidFill>
                <a:latin typeface="Symbol"/>
                <a:ea typeface="Symbol"/>
              </a:rPr>
              <a:t></a:t>
            </a:r>
            <a:r>
              <a:rPr b="0" lang="en-US" sz="26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SD)</a:t>
            </a:r>
            <a:r>
              <a:rPr b="0" lang="it-IT" sz="3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757080" y="2322360"/>
          <a:ext cx="8670960" cy="426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2322360"/>
                    <a:ext cx="8670960" cy="42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187280" y="0"/>
          <a:ext cx="716472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71647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914400" y="1484280"/>
            <a:ext cx="7772400" cy="46465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3300"/>
                </a:solidFill>
                <a:latin typeface="Comic Sans MS"/>
              </a:rPr>
              <a:t>The Metabolic Clinic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990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Lipodystrophy diagnosi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lth edu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Trea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Table 6: Dexa evaluation in female population (pre-menopausal women only) comparing HIV-positive pts with LD and HIV-negative controls</a:t>
            </a:r>
            <a:endParaRPr b="0" lang="en-US" sz="2600" spc="-1" strike="noStrike">
              <a:solidFill>
                <a:srgbClr val="cc33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684360" y="2584440"/>
          <a:ext cx="8459640" cy="33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584440"/>
                    <a:ext cx="845964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Table 7: </a:t>
            </a:r>
            <a:br>
              <a:rPr sz="2600"/>
            </a:b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Female to male differences in Computerised Bone Mineralometry. (mean </a:t>
            </a:r>
            <a:r>
              <a:rPr b="0" lang="en-US" sz="2600" spc="-1" strike="noStrike">
                <a:solidFill>
                  <a:srgbClr val="cc3300"/>
                </a:solidFill>
                <a:latin typeface="Symbol"/>
                <a:ea typeface="Symbol"/>
              </a:rPr>
              <a:t></a:t>
            </a:r>
            <a:r>
              <a:rPr b="0" lang="en-US" sz="26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SD)</a:t>
            </a:r>
            <a:r>
              <a:rPr b="0" lang="it-IT" sz="3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1192320" y="2273400"/>
          <a:ext cx="12261600" cy="249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2320" y="2273400"/>
                    <a:ext cx="1226160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Comic Sans MS"/>
              </a:rPr>
              <a:t>Cross sectional 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776680" y="3657600"/>
            <a:ext cx="3363840" cy="251604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39160" y="4654440"/>
            <a:ext cx="19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Body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l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877080" y="1066680"/>
            <a:ext cx="1798560" cy="6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Table 8: Female to male differences in body image and psychometric evaluation (mean </a:t>
            </a:r>
            <a:r>
              <a:rPr b="0" lang="en-US" sz="2600" spc="-1" strike="noStrike">
                <a:solidFill>
                  <a:srgbClr val="cc3300"/>
                </a:solidFill>
                <a:latin typeface="Symbol"/>
                <a:ea typeface="Symbol"/>
              </a:rPr>
              <a:t></a:t>
            </a:r>
            <a:r>
              <a:rPr b="0" lang="en-US" sz="26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SD)</a:t>
            </a:r>
            <a:r>
              <a:rPr b="0" lang="it-IT" sz="3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682560" y="2776680"/>
          <a:ext cx="9748800" cy="17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776680"/>
                    <a:ext cx="974880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Diet and lipid lowering agents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ntire cohort received detailed dietary couns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92720" y="1989000"/>
            <a:ext cx="352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in nutrients assumed with the diet assessed with one week dietary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4572000" y="3666960"/>
          <a:ext cx="4321080" cy="280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666960"/>
                    <a:ext cx="4321080" cy="28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cc3300"/>
                </a:solidFill>
                <a:latin typeface="Comic Sans MS"/>
              </a:rPr>
              <a:t>Physical activities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851280" y="4292640"/>
            <a:ext cx="4968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lf assessment of adherence to physical activities (analyzed in 34 patients who presented the diary of the gym activity) show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85.2%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patient having had more that 50% of prescribed physica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17.7%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 patients having had less than 50% of prescribed physical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4500720" y="1484280"/>
          <a:ext cx="4421160" cy="282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484280"/>
                    <a:ext cx="442116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"/>
          <p:cNvSpPr/>
          <p:nvPr/>
        </p:nvSpPr>
        <p:spPr>
          <a:xfrm>
            <a:off x="684360" y="1700280"/>
            <a:ext cx="417672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hysical activities program was counselled by a personal trainer in 3 time a week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59280" y="17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48 women analy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0" y="4722840"/>
          <a:ext cx="3379680" cy="2135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722840"/>
                    <a:ext cx="337968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611280" y="4653000"/>
            <a:ext cx="223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29 male analyz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ARV Switching or STI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62 (47.6%) </a:t>
            </a:r>
            <a:r>
              <a:rPr b="1" lang="en-GB" sz="1800" spc="-1" strike="noStrike">
                <a:solidFill>
                  <a:srgbClr val="cc3300"/>
                </a:solidFill>
                <a:latin typeface="Comic Sans MS"/>
              </a:rPr>
              <a:t>women</a:t>
            </a: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 were offered an antiretroviral switching progr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2 (35.4%) were switched from D4T or AZT to NNRTI or abacavir or tenofovi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 (9.6%) were switched from PI to NNRTI abacavir, tenofovir or atazanavi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18 patients (29%) were offered 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 the follow up period 5 of them had HAART regimen reintro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68 (52.4%) </a:t>
            </a:r>
            <a:r>
              <a:rPr b="1" lang="en-GB" sz="1800" spc="-1" strike="noStrike">
                <a:solidFill>
                  <a:srgbClr val="cc3300"/>
                </a:solidFill>
                <a:latin typeface="Comic Sans MS"/>
              </a:rPr>
              <a:t>men</a:t>
            </a: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 were offered an antiretroviral switching progra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 (41.1%) were switched from D4T or AZT to NNRTI or abacavir or tenofovi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 (8.8%) were switched from PI to NNRTI abacavir, tenofovir or atazanavi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Comic Sans MS"/>
              </a:rPr>
              <a:t>20 patients (29.4%) were offered 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 the follow up period 4 of them had HAART regimen reintro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cc3300"/>
                </a:solidFill>
                <a:latin typeface="Comic Sans MS"/>
              </a:rPr>
              <a:t>Psychological support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sychological support included discussion of the self administered questionnaires and  an unstructured interview concerning body image discussion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perceptions and attitudes towards one’s bo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ccuracy or distortion of perceived body dim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houghts, beliefs, actions, feelings, emotions and satisfaction concerning the bod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Plastic surgery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750960" y="4640400"/>
          <a:ext cx="3836880" cy="216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4640400"/>
                    <a:ext cx="3836880" cy="21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684360" y="2852640"/>
            <a:ext cx="3382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ean number of injections with filler material was 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42920" y="1773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rgical intervention were performed in 78 female pati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211640" y="2370240"/>
          <a:ext cx="4932360" cy="2867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2370240"/>
                    <a:ext cx="493236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21 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cc3300"/>
                </a:solidFill>
                <a:latin typeface="Comic Sans MS"/>
              </a:rPr>
              <a:t>Plastic Surgery for Facial Lipoatrophy</a:t>
            </a:r>
            <a:endParaRPr b="0" lang="en-US" sz="3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3889440" y="1859040"/>
            <a:ext cx="5254560" cy="42926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684360" y="1844640"/>
            <a:ext cx="295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Autologoaus        fat transfer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(Coleman’s techn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11280" y="3478320"/>
            <a:ext cx="1403280" cy="105228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2484360" y="346392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4"/>
          <a:stretch/>
        </p:blipFill>
        <p:spPr>
          <a:xfrm>
            <a:off x="611280" y="4941720"/>
            <a:ext cx="1133280" cy="15116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5"/>
          <a:stretch/>
        </p:blipFill>
        <p:spPr>
          <a:xfrm>
            <a:off x="2411280" y="5229360"/>
            <a:ext cx="1440000" cy="10825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900000" y="45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87640" y="45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00000" y="6491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43280" y="6491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3300"/>
                </a:solidFill>
                <a:latin typeface="Comic Sans MS"/>
              </a:rPr>
              <a:t>LD diagnosis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6120" y="2262240"/>
            <a:ext cx="3362400" cy="25160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2281320"/>
            <a:ext cx="3362400" cy="251784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33080" y="3138480"/>
            <a:ext cx="17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Metabo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l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1160" y="3429000"/>
            <a:ext cx="1986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nsul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HOMA – 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T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L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Lipoprot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Lac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77080" y="1066680"/>
            <a:ext cx="1798560" cy="6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cc3300"/>
                </a:solidFill>
                <a:latin typeface="Comic Sans MS"/>
              </a:rPr>
              <a:t>Plastic Surgery for Facial Lipoatrophy</a:t>
            </a:r>
            <a:endParaRPr b="0" lang="en-US" sz="3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3887640" y="1857240"/>
            <a:ext cx="5256360" cy="429444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684360" y="3213000"/>
            <a:ext cx="2952720" cy="4597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Polylact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4360" y="5661000"/>
            <a:ext cx="2950920" cy="45972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Polyacrylamide</a:t>
            </a:r>
            <a:r>
              <a:rPr b="0" lang="it-IT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24000" y="5229360"/>
            <a:ext cx="2160720" cy="215640"/>
          </a:xfrm>
          <a:custGeom>
            <a:avLst/>
            <a:gdLst>
              <a:gd name="textAreaLeft" fmla="*/ 337320 w 2160720"/>
              <a:gd name="textAreaRight" fmla="*/ 1890720 w 21607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24000" y="4005360"/>
            <a:ext cx="2160720" cy="215640"/>
          </a:xfrm>
          <a:custGeom>
            <a:avLst/>
            <a:gdLst>
              <a:gd name="textAreaLeft" fmla="*/ 337320 w 2160720"/>
              <a:gd name="textAreaRight" fmla="*/ 1890720 w 21607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Table 9: Objective and subjective outcomes at baseline and in the follow-up period. (mean </a:t>
            </a:r>
            <a:r>
              <a:rPr b="0" lang="en-US" sz="2600" spc="-1" strike="noStrike">
                <a:solidFill>
                  <a:srgbClr val="cc3300"/>
                </a:solidFill>
                <a:latin typeface="Symbol"/>
                <a:ea typeface="Symbol"/>
              </a:rPr>
              <a:t></a:t>
            </a:r>
            <a:r>
              <a:rPr b="0" lang="en-US" sz="26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SD)</a:t>
            </a:r>
            <a:r>
              <a:rPr b="0" lang="it-IT" sz="3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704880" y="1590840"/>
          <a:ext cx="7905600" cy="52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590840"/>
                    <a:ext cx="7905600" cy="52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3300"/>
                </a:solidFill>
                <a:latin typeface="Comic Sans MS"/>
              </a:rPr>
              <a:t>Statistical analysis</a:t>
            </a:r>
            <a:endParaRPr b="0" lang="en-US" sz="3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assess temporal evolution we tested the 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post-pre difference vector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by Multivariate Analysis of Variance (MANOVA) for an intercept-only model, calculating the p-value for Wilks’ lambda statistic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Table 10: Analysis of variance of temporal evolution of lipodystrophy variables</a:t>
            </a:r>
            <a:r>
              <a:rPr b="0" lang="it-IT" sz="3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630360" y="2022480"/>
          <a:ext cx="8494560" cy="404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2022480"/>
                    <a:ext cx="849456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3300"/>
                </a:solidFill>
                <a:latin typeface="Comic Sans MS"/>
              </a:rPr>
              <a:t>Table 10: Analysis of variance of temporal evolution of lipodystrophy variables</a:t>
            </a:r>
            <a:r>
              <a:rPr b="0" lang="it-IT" sz="3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914400" y="1649520"/>
          <a:ext cx="8626320" cy="491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49520"/>
                    <a:ext cx="8626320" cy="49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Conclusion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 the first report aimed at analysing a multidisciplinary approach in the treatment of HIV-related lipodystrop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believe that these observations may help to understand a useful clinical approach in the management of LD in clinical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conclude that medical and surgical interventions proposed in this multidisciplinary system are efficacious and safe in the management of LD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3300"/>
                </a:solidFill>
                <a:latin typeface="Comic Sans MS"/>
              </a:rPr>
              <a:t>LD diagnosis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6120" y="2262240"/>
            <a:ext cx="3362400" cy="25160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2281320"/>
            <a:ext cx="3362400" cy="2517840"/>
          </a:xfrm>
          <a:prstGeom prst="ellipse">
            <a:avLst/>
          </a:prstGeom>
          <a:solidFill>
            <a:srgbClr val="feaa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281320"/>
            <a:ext cx="3362400" cy="2517840"/>
          </a:xfrm>
          <a:prstGeom prst="ellips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6120" y="2281320"/>
            <a:ext cx="3362400" cy="251784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33080" y="3138480"/>
            <a:ext cx="17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Metabo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l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83760" y="2951280"/>
            <a:ext cx="21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Morpholog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l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9000" y="4210200"/>
            <a:ext cx="7790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B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W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Limb circum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Dermal and subcutn thickness of cheeks (ultras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DEXA Total, trunk and limbs lean and fat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CT scan (VAT, 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1066680"/>
            <a:ext cx="1798560" cy="6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16:42:34Z</dcterms:created>
  <dc:creator>.</dc:creator>
  <dc:description/>
  <dc:language>en-US</dc:language>
  <cp:lastModifiedBy>Nadir</cp:lastModifiedBy>
  <dcterms:modified xsi:type="dcterms:W3CDTF">2005-09-12T12:31:33Z</dcterms:modified>
  <cp:revision>256</cp:revision>
  <dc:subject/>
  <dc:title>Nessun titolo diapositiva</dc:title>
</cp:coreProperties>
</file>